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4.png" ContentType="image/png"/>
  <Override PartName="/ppt/media/image3.png" ContentType="image/png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C71F-35E2-4642-B4BF-DD031B613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3280" y="18864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609080"/>
            <a:ext cx="8229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3A19-4362-45B9-AB1E-D7FF603C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43280" y="18864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40158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276640"/>
            <a:ext cx="40158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609080"/>
            <a:ext cx="40158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609080"/>
            <a:ext cx="40158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D060-69D9-49F8-A038-3EEE32524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43280" y="18864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2649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276640"/>
            <a:ext cx="2649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276640"/>
            <a:ext cx="2649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609080"/>
            <a:ext cx="2649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609080"/>
            <a:ext cx="2649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609080"/>
            <a:ext cx="2649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3371-8E71-4D61-A8F9-8BB95C8B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43280" y="18864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7664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1AF8-16D6-44B7-A9B6-184A628D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43280" y="18864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1D4A-8741-41BB-85E6-7873DF4F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3280" y="18864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40158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276640"/>
            <a:ext cx="40158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5969-C241-4A30-9671-4C983675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43280" y="18864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2453-9384-499D-8295-7F6DE6B5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43280" y="188640"/>
            <a:ext cx="63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0A1E-534D-41CD-BFB1-754884D2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43280" y="18864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40158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276640"/>
            <a:ext cx="40158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609080"/>
            <a:ext cx="40158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7DC4-E488-4D13-8C3F-89830187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3280" y="18864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40158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276640"/>
            <a:ext cx="40158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609080"/>
            <a:ext cx="40158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9749-A469-4E19-915D-B45C44AF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3280" y="18864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40158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76640"/>
            <a:ext cx="40158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609080"/>
            <a:ext cx="8229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E4B4-71C5-4E2E-881D-F1A5B3A8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43280" y="18864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aiandra GD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7664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aiandra G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aiandra G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aiandra G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D542-824A-4C96-BA6D-A80254B09AF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595008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06920" y="3108240"/>
            <a:ext cx="4537080" cy="466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aiandra GD"/>
              </a:rPr>
              <a:t>The role of testostero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aiandra GD"/>
              </a:rPr>
              <a:t>in erectile fun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aiandra GD"/>
              </a:rPr>
              <a:t>Role of androgens in erectile physiology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Maiandra GD"/>
              </a:rPr>
              <a:t>which hormone is critical</a:t>
            </a:r>
            <a:r>
              <a:rPr b="1" lang="he-IL" sz="4400" spc="-1" strike="noStrike">
                <a:solidFill>
                  <a:srgbClr val="000000"/>
                </a:solidFill>
                <a:latin typeface="Maiandra GD"/>
              </a:rPr>
              <a:t>?</a:t>
            </a:r>
            <a:r>
              <a:rPr b="1" lang="en-US" sz="4400" spc="-1" strike="noStrike">
                <a:solidFill>
                  <a:srgbClr val="000000"/>
                </a:solidFill>
                <a:latin typeface="Maiandra GD"/>
              </a:rPr>
              <a:t> 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Maiandra GD"/>
              </a:rPr>
              <a:t>(testosterone or DHT) 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237360"/>
            <a:ext cx="885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aiandra GD"/>
              </a:rPr>
              <a:t>Decreased DHT due to Dutasteride cause sexual dysfunction despite normal-high testosterone level</a:t>
            </a:r>
            <a:endParaRPr b="1" lang="en-US" sz="4000" spc="-1" strike="noStrike">
              <a:solidFill>
                <a:srgbClr val="000000"/>
              </a:solidFill>
              <a:latin typeface="Maiandra GD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0" t="0" r="0" b="11133"/>
          <a:stretch/>
        </p:blipFill>
        <p:spPr>
          <a:xfrm>
            <a:off x="395280" y="2349360"/>
            <a:ext cx="8748720" cy="3816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292720" y="2637000"/>
            <a:ext cx="2305080" cy="1584000"/>
          </a:xfrm>
          <a:prstGeom prst="rect">
            <a:avLst/>
          </a:prstGeom>
          <a:solidFill>
            <a:srgbClr val="ff33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93120" y="6311880"/>
            <a:ext cx="59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ROEHRBORN et al. UROLOGY 60</a:t>
            </a:r>
            <a:r>
              <a:rPr b="0" lang="he-IL" sz="2000" spc="-1" strike="noStrike">
                <a:solidFill>
                  <a:srgbClr val="000000"/>
                </a:solidFill>
                <a:latin typeface="Maiandra GD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434–441, 2002</a:t>
            </a:r>
            <a:r>
              <a:rPr b="0" lang="he-IL" sz="2000" spc="-1" strike="noStrike">
                <a:solidFill>
                  <a:srgbClr val="000000"/>
                </a:solidFill>
                <a:latin typeface="Maiandra G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341360"/>
            <a:ext cx="896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aiandra GD"/>
              </a:rPr>
              <a:t>Lugg et al. Endocrinology 136: 1495-1501,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755640" y="1989000"/>
            <a:ext cx="6840360" cy="4608000"/>
            <a:chOff x="755640" y="1989000"/>
            <a:chExt cx="6840360" cy="4608000"/>
          </a:xfrm>
        </p:grpSpPr>
        <p:pic>
          <p:nvPicPr>
            <p:cNvPr id="89" name="" descr=""/>
            <p:cNvPicPr/>
            <p:nvPr/>
          </p:nvPicPr>
          <p:blipFill>
            <a:blip r:embed="rId1"/>
            <a:srcRect l="0" t="0" r="0" b="47305"/>
            <a:stretch/>
          </p:blipFill>
          <p:spPr>
            <a:xfrm>
              <a:off x="755640" y="1989000"/>
              <a:ext cx="6840360" cy="413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2"/>
            <a:srcRect l="0" t="93984" r="0" b="0"/>
            <a:stretch/>
          </p:blipFill>
          <p:spPr>
            <a:xfrm>
              <a:off x="755640" y="6123960"/>
              <a:ext cx="6840360" cy="47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/>
          <p:cNvSpPr/>
          <p:nvPr/>
        </p:nvSpPr>
        <p:spPr>
          <a:xfrm>
            <a:off x="4211640" y="4869000"/>
            <a:ext cx="4932360" cy="1224000"/>
          </a:xfrm>
          <a:prstGeom prst="wedgeEllipseCallout">
            <a:avLst>
              <a:gd name="adj1" fmla="val -65157"/>
              <a:gd name="adj2" fmla="val -685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aiandra GD"/>
              </a:rPr>
              <a:t>Castration reduced erectile response by 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35280" y="1989000"/>
            <a:ext cx="5508720" cy="1008360"/>
          </a:xfrm>
          <a:prstGeom prst="wedgeEllipseCallout">
            <a:avLst>
              <a:gd name="adj1" fmla="val -28125"/>
              <a:gd name="adj2" fmla="val 17708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aiandra GD"/>
              </a:rPr>
              <a:t>Testosterone restored erectile response to norm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549360"/>
            <a:ext cx="885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360" y="2205000"/>
            <a:ext cx="360360" cy="360360"/>
          </a:xfrm>
          <a:prstGeom prst="ellipse">
            <a:avLst/>
          </a:prstGeom>
          <a:gradFill rotWithShape="0">
            <a:gsLst>
              <a:gs pos="0">
                <a:srgbClr val="82828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360" y="2925720"/>
            <a:ext cx="360360" cy="360360"/>
          </a:xfrm>
          <a:prstGeom prst="ellipse">
            <a:avLst/>
          </a:prstGeom>
          <a:gradFill rotWithShape="0">
            <a:gsLst>
              <a:gs pos="0">
                <a:srgbClr val="82828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360" y="-27000"/>
            <a:ext cx="360360" cy="360360"/>
          </a:xfrm>
          <a:prstGeom prst="ellipse">
            <a:avLst/>
          </a:prstGeom>
          <a:gradFill rotWithShape="0">
            <a:gsLst>
              <a:gs pos="0">
                <a:srgbClr val="82828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341360"/>
            <a:ext cx="896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ugg et al. Endocrinology 136: 1495-1501,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55640" y="1989000"/>
            <a:ext cx="6840360" cy="4608000"/>
            <a:chOff x="755640" y="1989000"/>
            <a:chExt cx="6840360" cy="460800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rcRect l="0" t="0" r="0" b="47305"/>
            <a:stretch/>
          </p:blipFill>
          <p:spPr>
            <a:xfrm>
              <a:off x="755640" y="1989000"/>
              <a:ext cx="6840360" cy="413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rcRect l="0" t="93984" r="0" b="0"/>
            <a:stretch/>
          </p:blipFill>
          <p:spPr>
            <a:xfrm>
              <a:off x="755640" y="6123960"/>
              <a:ext cx="6840360" cy="47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5364000" y="3645000"/>
            <a:ext cx="720720" cy="1079280"/>
          </a:xfrm>
          <a:custGeom>
            <a:avLst/>
            <a:gdLst/>
            <a:ahLst/>
            <a:rect l="l" t="t" r="r" b="b"/>
            <a:pathLst>
              <a:path w="431" h="816">
                <a:moveTo>
                  <a:pt x="431" y="45"/>
                </a:moveTo>
                <a:cubicBezTo>
                  <a:pt x="325" y="94"/>
                  <a:pt x="219" y="144"/>
                  <a:pt x="204" y="227"/>
                </a:cubicBezTo>
                <a:cubicBezTo>
                  <a:pt x="189" y="310"/>
                  <a:pt x="370" y="446"/>
                  <a:pt x="340" y="544"/>
                </a:cubicBezTo>
                <a:cubicBezTo>
                  <a:pt x="310" y="642"/>
                  <a:pt x="46" y="816"/>
                  <a:pt x="23" y="816"/>
                </a:cubicBezTo>
                <a:cubicBezTo>
                  <a:pt x="0" y="816"/>
                  <a:pt x="196" y="635"/>
                  <a:pt x="204" y="544"/>
                </a:cubicBezTo>
                <a:cubicBezTo>
                  <a:pt x="212" y="453"/>
                  <a:pt x="98" y="363"/>
                  <a:pt x="68" y="272"/>
                </a:cubicBezTo>
                <a:cubicBezTo>
                  <a:pt x="38" y="181"/>
                  <a:pt x="30" y="90"/>
                  <a:pt x="23" y="0"/>
                </a:cubicBezTo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2133720"/>
            <a:ext cx="5796000" cy="1655640"/>
          </a:xfrm>
          <a:prstGeom prst="wedgeEllipseCallout">
            <a:avLst>
              <a:gd name="adj1" fmla="val -11981"/>
              <a:gd name="adj2" fmla="val 4348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aiandra GD"/>
              </a:rPr>
              <a:t>When finasteride was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aiandra GD"/>
              </a:rPr>
              <a:t>with testosterone  erectile response was not  restor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5280" y="549360"/>
            <a:ext cx="885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404640"/>
            <a:ext cx="360360" cy="360360"/>
          </a:xfrm>
          <a:prstGeom prst="ellipse">
            <a:avLst/>
          </a:prstGeom>
          <a:gradFill rotWithShape="0">
            <a:gsLst>
              <a:gs pos="0">
                <a:srgbClr val="82828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76360" y="404640"/>
            <a:ext cx="360360" cy="360360"/>
          </a:xfrm>
          <a:prstGeom prst="ellipse">
            <a:avLst/>
          </a:prstGeom>
          <a:gradFill rotWithShape="0">
            <a:gsLst>
              <a:gs pos="0">
                <a:srgbClr val="82828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36360" y="404640"/>
            <a:ext cx="360360" cy="360360"/>
          </a:xfrm>
          <a:prstGeom prst="ellipse">
            <a:avLst/>
          </a:prstGeom>
          <a:gradFill rotWithShape="0">
            <a:gsLst>
              <a:gs pos="0">
                <a:srgbClr val="82828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aiandra GD"/>
                <a:ea typeface="Times New Roman (Hebrew)"/>
              </a:rPr>
              <a:t>DHT and not testosterone is the important hormone for erectil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623736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189000"/>
            <a:ext cx="6912000" cy="301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aiandra GD"/>
              </a:rPr>
              <a:t>Hypogonadism as caus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aiandra GD"/>
              </a:rPr>
              <a:t>of erectile dysfun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108360" y="-243360"/>
            <a:ext cx="9286920" cy="79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aiandra GD"/>
              </a:rPr>
              <a:t>HYPOGONADISM AS CAUSE OF ED</a:t>
            </a:r>
            <a:endParaRPr b="1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1989000"/>
            <a:ext cx="792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28080" y="1344600"/>
            <a:ext cx="390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aiandra GD"/>
              </a:rPr>
              <a:t>Castration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00720" y="2276640"/>
            <a:ext cx="4643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aiandra GD"/>
              </a:rPr>
              <a:t>The strongest evidence of the role of testosterone in erection in human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Maiandra GD"/>
              </a:rPr>
              <a:t>comes from studies of castrated m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280" y="3068280"/>
            <a:ext cx="820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aiandra GD"/>
              </a:rPr>
              <a:t>Several clinical studies demonstrated that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Maiandra GD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Maiandra GD"/>
              </a:rPr>
              <a:t>surgical or medical castration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Maiandra GD"/>
              </a:rPr>
              <a:t>loss of libido and ED</a:t>
            </a:r>
            <a:endParaRPr b="1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622440"/>
            <a:ext cx="885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67280" y="4581360"/>
            <a:ext cx="863640" cy="720720"/>
          </a:xfrm>
          <a:prstGeom prst="downArrow">
            <a:avLst>
              <a:gd name="adj1" fmla="val 56935"/>
              <a:gd name="adj2" fmla="val 45477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3357720"/>
            <a:ext cx="7848720" cy="1008000"/>
          </a:xfrm>
          <a:prstGeom prst="rect">
            <a:avLst/>
          </a:prstGeom>
          <a:solidFill>
            <a:srgbClr val="cc330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35280" y="5516640"/>
            <a:ext cx="5545080" cy="720720"/>
          </a:xfrm>
          <a:prstGeom prst="rect">
            <a:avLst/>
          </a:prstGeom>
          <a:solidFill>
            <a:srgbClr val="cc99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43280" y="18864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aiandra GD"/>
              </a:rPr>
              <a:t>Marked effect of castration in rodents</a:t>
            </a:r>
            <a:endParaRPr b="1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Decrease penile size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Change sexual behavior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Reduce erectile function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2565360"/>
            <a:ext cx="885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50920" y="2565360"/>
            <a:ext cx="885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249192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aiandra GD"/>
              </a:rPr>
              <a:t>Following castration 58%-100% of men suffer from partial or complete ED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Maiandra GD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aiandra GD"/>
              </a:rPr>
              <a:t>Sexual function could still be maintained at subnormal serum total testosterone.</a:t>
            </a:r>
            <a:endParaRPr b="0" lang="en-US" sz="4000" spc="-1" strike="noStrike">
              <a:solidFill>
                <a:srgbClr val="000000"/>
              </a:solidFill>
              <a:latin typeface="Maiandra G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iandra G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25" name=""/>
          <p:cNvSpPr/>
          <p:nvPr/>
        </p:nvSpPr>
        <p:spPr>
          <a:xfrm>
            <a:off x="8534520" y="32306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35640" y="2205000"/>
            <a:ext cx="1368360" cy="1152720"/>
          </a:xfrm>
          <a:prstGeom prst="ellipse">
            <a:avLst/>
          </a:prstGeom>
          <a:noFill/>
          <a:ln w="3816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63280" y="764640"/>
            <a:ext cx="73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aiandra GD"/>
              </a:rPr>
              <a:t>In human the effect of castration seems less drastic</a:t>
            </a:r>
            <a:endParaRPr b="1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In contract to rodent’s adrenal the human adrenal produce sufficient androgens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aiandra GD"/>
              </a:rPr>
              <a:t>Existence of  “back-door pathway” 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aiandra GD"/>
              </a:rPr>
              <a:t>The testosterone threshold to maintain erectile function is lower than needed for tissue functions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2565360"/>
            <a:ext cx="885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4427640" y="-316080"/>
            <a:ext cx="4176720" cy="4876920"/>
            <a:chOff x="4427640" y="-316080"/>
            <a:chExt cx="4176720" cy="4876920"/>
          </a:xfrm>
        </p:grpSpPr>
        <p:sp>
          <p:nvSpPr>
            <p:cNvPr id="44" name=""/>
            <p:cNvSpPr/>
            <p:nvPr/>
          </p:nvSpPr>
          <p:spPr>
            <a:xfrm>
              <a:off x="4427640" y="-316080"/>
              <a:ext cx="4176720" cy="4535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Maiandra GD"/>
                </a:rPr>
                <a:t>Aging mal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Maiandra GD"/>
                </a:rPr>
                <a:t> </a:t>
              </a:r>
              <a:r>
                <a:rPr b="1" lang="en-US" sz="4800" spc="-1" strike="noStrike">
                  <a:solidFill>
                    <a:srgbClr val="ffffff"/>
                  </a:solidFill>
                  <a:latin typeface="Maiandra GD"/>
                </a:rPr>
                <a:t>hypogonadism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Maiandra GD"/>
                </a:rPr>
                <a:t>and  ED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940360" y="4076640"/>
              <a:ext cx="486000" cy="484200"/>
            </a:xfrm>
            <a:custGeom>
              <a:avLst/>
              <a:gdLst/>
              <a:ahLst/>
              <a:rect l="l" t="t" r="r" b="b"/>
              <a:pathLst>
                <a:path w="306" h="305">
                  <a:moveTo>
                    <a:pt x="112" y="27"/>
                  </a:moveTo>
                  <a:cubicBezTo>
                    <a:pt x="109" y="86"/>
                    <a:pt x="135" y="157"/>
                    <a:pt x="98" y="203"/>
                  </a:cubicBezTo>
                  <a:cubicBezTo>
                    <a:pt x="84" y="220"/>
                    <a:pt x="37" y="230"/>
                    <a:pt x="37" y="230"/>
                  </a:cubicBezTo>
                  <a:cubicBezTo>
                    <a:pt x="2" y="255"/>
                    <a:pt x="0" y="274"/>
                    <a:pt x="37" y="298"/>
                  </a:cubicBezTo>
                  <a:cubicBezTo>
                    <a:pt x="123" y="296"/>
                    <a:pt x="210" y="305"/>
                    <a:pt x="295" y="291"/>
                  </a:cubicBezTo>
                  <a:cubicBezTo>
                    <a:pt x="306" y="289"/>
                    <a:pt x="292" y="268"/>
                    <a:pt x="288" y="258"/>
                  </a:cubicBezTo>
                  <a:cubicBezTo>
                    <a:pt x="277" y="229"/>
                    <a:pt x="244" y="203"/>
                    <a:pt x="227" y="176"/>
                  </a:cubicBezTo>
                  <a:cubicBezTo>
                    <a:pt x="225" y="144"/>
                    <a:pt x="218" y="113"/>
                    <a:pt x="220" y="81"/>
                  </a:cubicBezTo>
                  <a:cubicBezTo>
                    <a:pt x="222" y="49"/>
                    <a:pt x="235" y="44"/>
                    <a:pt x="247" y="20"/>
                  </a:cubicBezTo>
                  <a:cubicBezTo>
                    <a:pt x="250" y="14"/>
                    <a:pt x="254" y="0"/>
                    <a:pt x="254" y="0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564000" y="4221000"/>
            <a:ext cx="3160800" cy="1152720"/>
          </a:xfrm>
          <a:custGeom>
            <a:avLst/>
            <a:gdLst/>
            <a:ahLst/>
            <a:rect l="l" t="t" r="r" b="b"/>
            <a:pathLst>
              <a:path w="2172" h="1287">
                <a:moveTo>
                  <a:pt x="0" y="1287"/>
                </a:moveTo>
                <a:cubicBezTo>
                  <a:pt x="5" y="1194"/>
                  <a:pt x="12" y="1133"/>
                  <a:pt x="41" y="1050"/>
                </a:cubicBezTo>
                <a:cubicBezTo>
                  <a:pt x="45" y="988"/>
                  <a:pt x="37" y="821"/>
                  <a:pt x="102" y="779"/>
                </a:cubicBezTo>
                <a:cubicBezTo>
                  <a:pt x="122" y="750"/>
                  <a:pt x="125" y="725"/>
                  <a:pt x="156" y="704"/>
                </a:cubicBezTo>
                <a:cubicBezTo>
                  <a:pt x="173" y="680"/>
                  <a:pt x="187" y="679"/>
                  <a:pt x="211" y="664"/>
                </a:cubicBezTo>
                <a:cubicBezTo>
                  <a:pt x="252" y="598"/>
                  <a:pt x="293" y="617"/>
                  <a:pt x="346" y="582"/>
                </a:cubicBezTo>
                <a:cubicBezTo>
                  <a:pt x="395" y="550"/>
                  <a:pt x="459" y="500"/>
                  <a:pt x="515" y="488"/>
                </a:cubicBezTo>
                <a:cubicBezTo>
                  <a:pt x="612" y="492"/>
                  <a:pt x="715" y="470"/>
                  <a:pt x="807" y="501"/>
                </a:cubicBezTo>
                <a:cubicBezTo>
                  <a:pt x="850" y="516"/>
                  <a:pt x="894" y="536"/>
                  <a:pt x="936" y="548"/>
                </a:cubicBezTo>
                <a:cubicBezTo>
                  <a:pt x="958" y="564"/>
                  <a:pt x="974" y="588"/>
                  <a:pt x="997" y="603"/>
                </a:cubicBezTo>
                <a:cubicBezTo>
                  <a:pt x="1074" y="653"/>
                  <a:pt x="1161" y="695"/>
                  <a:pt x="1247" y="725"/>
                </a:cubicBezTo>
                <a:cubicBezTo>
                  <a:pt x="1287" y="739"/>
                  <a:pt x="1329" y="743"/>
                  <a:pt x="1369" y="759"/>
                </a:cubicBezTo>
                <a:cubicBezTo>
                  <a:pt x="1378" y="763"/>
                  <a:pt x="1387" y="768"/>
                  <a:pt x="1396" y="772"/>
                </a:cubicBezTo>
                <a:cubicBezTo>
                  <a:pt x="1409" y="777"/>
                  <a:pt x="1437" y="786"/>
                  <a:pt x="1437" y="786"/>
                </a:cubicBezTo>
                <a:cubicBezTo>
                  <a:pt x="1953" y="775"/>
                  <a:pt x="1627" y="794"/>
                  <a:pt x="1830" y="752"/>
                </a:cubicBezTo>
                <a:cubicBezTo>
                  <a:pt x="1865" y="727"/>
                  <a:pt x="1897" y="701"/>
                  <a:pt x="1939" y="691"/>
                </a:cubicBezTo>
                <a:cubicBezTo>
                  <a:pt x="1961" y="676"/>
                  <a:pt x="1983" y="670"/>
                  <a:pt x="2006" y="657"/>
                </a:cubicBezTo>
                <a:cubicBezTo>
                  <a:pt x="2037" y="639"/>
                  <a:pt x="2024" y="640"/>
                  <a:pt x="2061" y="616"/>
                </a:cubicBezTo>
                <a:cubicBezTo>
                  <a:pt x="2092" y="596"/>
                  <a:pt x="2122" y="582"/>
                  <a:pt x="2149" y="555"/>
                </a:cubicBezTo>
                <a:cubicBezTo>
                  <a:pt x="2172" y="478"/>
                  <a:pt x="2139" y="399"/>
                  <a:pt x="2122" y="325"/>
                </a:cubicBezTo>
                <a:cubicBezTo>
                  <a:pt x="2121" y="312"/>
                  <a:pt x="2125" y="235"/>
                  <a:pt x="2108" y="203"/>
                </a:cubicBezTo>
                <a:cubicBezTo>
                  <a:pt x="2092" y="173"/>
                  <a:pt x="2060" y="160"/>
                  <a:pt x="2033" y="142"/>
                </a:cubicBezTo>
                <a:cubicBezTo>
                  <a:pt x="1873" y="37"/>
                  <a:pt x="1904" y="81"/>
                  <a:pt x="1607" y="74"/>
                </a:cubicBezTo>
                <a:cubicBezTo>
                  <a:pt x="1563" y="59"/>
                  <a:pt x="1571" y="22"/>
                  <a:pt x="1607" y="0"/>
                </a:cubicBezTo>
                <a:cubicBezTo>
                  <a:pt x="1639" y="6"/>
                  <a:pt x="1669" y="14"/>
                  <a:pt x="1701" y="20"/>
                </a:cubicBezTo>
                <a:cubicBezTo>
                  <a:pt x="1731" y="39"/>
                  <a:pt x="1775" y="59"/>
                  <a:pt x="1810" y="67"/>
                </a:cubicBezTo>
                <a:cubicBezTo>
                  <a:pt x="1817" y="72"/>
                  <a:pt x="1830" y="73"/>
                  <a:pt x="1830" y="81"/>
                </a:cubicBezTo>
                <a:cubicBezTo>
                  <a:pt x="1830" y="88"/>
                  <a:pt x="1817" y="87"/>
                  <a:pt x="1810" y="88"/>
                </a:cubicBezTo>
                <a:cubicBezTo>
                  <a:pt x="1776" y="92"/>
                  <a:pt x="1742" y="92"/>
                  <a:pt x="1708" y="94"/>
                </a:cubicBezTo>
                <a:cubicBezTo>
                  <a:pt x="1678" y="102"/>
                  <a:pt x="1653" y="108"/>
                  <a:pt x="1627" y="128"/>
                </a:cubicBezTo>
                <a:cubicBezTo>
                  <a:pt x="1587" y="159"/>
                  <a:pt x="1628" y="143"/>
                  <a:pt x="1586" y="155"/>
                </a:cubicBezTo>
                <a:cubicBezTo>
                  <a:pt x="1571" y="167"/>
                  <a:pt x="1542" y="186"/>
                  <a:pt x="1546" y="196"/>
                </a:cubicBezTo>
                <a:cubicBezTo>
                  <a:pt x="1550" y="205"/>
                  <a:pt x="1564" y="205"/>
                  <a:pt x="1573" y="210"/>
                </a:cubicBezTo>
                <a:cubicBezTo>
                  <a:pt x="1637" y="197"/>
                  <a:pt x="1692" y="171"/>
                  <a:pt x="1742" y="128"/>
                </a:cubicBezTo>
                <a:cubicBezTo>
                  <a:pt x="1749" y="122"/>
                  <a:pt x="1754" y="113"/>
                  <a:pt x="1762" y="108"/>
                </a:cubicBezTo>
                <a:cubicBezTo>
                  <a:pt x="1775" y="100"/>
                  <a:pt x="1790" y="96"/>
                  <a:pt x="1803" y="88"/>
                </a:cubicBezTo>
                <a:cubicBezTo>
                  <a:pt x="1811" y="75"/>
                  <a:pt x="1823" y="46"/>
                  <a:pt x="1823" y="88"/>
                </a:cubicBezTo>
                <a:cubicBezTo>
                  <a:pt x="1823" y="133"/>
                  <a:pt x="1820" y="178"/>
                  <a:pt x="1817" y="223"/>
                </a:cubicBezTo>
                <a:cubicBezTo>
                  <a:pt x="1812" y="313"/>
                  <a:pt x="1839" y="311"/>
                  <a:pt x="1803" y="311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15160" y="4356000"/>
            <a:ext cx="217440" cy="328680"/>
          </a:xfrm>
          <a:custGeom>
            <a:avLst/>
            <a:gdLst/>
            <a:ahLst/>
            <a:rect l="l" t="t" r="r" b="b"/>
            <a:pathLst>
              <a:path w="149" h="367">
                <a:moveTo>
                  <a:pt x="149" y="0"/>
                </a:moveTo>
                <a:cubicBezTo>
                  <a:pt x="147" y="39"/>
                  <a:pt x="146" y="77"/>
                  <a:pt x="142" y="116"/>
                </a:cubicBezTo>
                <a:cubicBezTo>
                  <a:pt x="140" y="141"/>
                  <a:pt x="108" y="183"/>
                  <a:pt x="108" y="183"/>
                </a:cubicBezTo>
                <a:cubicBezTo>
                  <a:pt x="97" y="247"/>
                  <a:pt x="68" y="290"/>
                  <a:pt x="27" y="339"/>
                </a:cubicBezTo>
                <a:cubicBezTo>
                  <a:pt x="4" y="367"/>
                  <a:pt x="24" y="355"/>
                  <a:pt x="0" y="36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00320" y="5788080"/>
            <a:ext cx="406440" cy="561960"/>
          </a:xfrm>
          <a:custGeom>
            <a:avLst/>
            <a:gdLst/>
            <a:ahLst/>
            <a:rect l="l" t="t" r="r" b="b"/>
            <a:pathLst>
              <a:path w="256" h="354">
                <a:moveTo>
                  <a:pt x="195" y="0"/>
                </a:moveTo>
                <a:cubicBezTo>
                  <a:pt x="190" y="196"/>
                  <a:pt x="256" y="308"/>
                  <a:pt x="87" y="352"/>
                </a:cubicBezTo>
                <a:cubicBezTo>
                  <a:pt x="71" y="350"/>
                  <a:pt x="53" y="354"/>
                  <a:pt x="39" y="345"/>
                </a:cubicBezTo>
                <a:cubicBezTo>
                  <a:pt x="25" y="336"/>
                  <a:pt x="12" y="305"/>
                  <a:pt x="12" y="305"/>
                </a:cubicBezTo>
                <a:cubicBezTo>
                  <a:pt x="0" y="269"/>
                  <a:pt x="11" y="249"/>
                  <a:pt x="39" y="230"/>
                </a:cubicBezTo>
                <a:cubicBezTo>
                  <a:pt x="82" y="245"/>
                  <a:pt x="80" y="230"/>
                  <a:pt x="80" y="25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aiandra GD"/>
              </a:rPr>
              <a:t>adrenal sex steroids</a:t>
            </a:r>
            <a:endParaRPr b="1" lang="en-US" sz="5400" spc="-1" strike="noStrike">
              <a:solidFill>
                <a:srgbClr val="000000"/>
              </a:solidFill>
              <a:latin typeface="Maiandra G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16000" y="4581360"/>
            <a:ext cx="7054920" cy="2051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187280" y="5805360"/>
            <a:ext cx="6913800" cy="792360"/>
          </a:xfrm>
          <a:prstGeom prst="rect">
            <a:avLst/>
          </a:prstGeom>
          <a:solidFill>
            <a:srgbClr val="cc33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79280" y="2133720"/>
            <a:ext cx="8764560" cy="14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63280" y="764640"/>
            <a:ext cx="73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aiandra GD"/>
              </a:rPr>
              <a:t>In human the effect of castration seems less drastic</a:t>
            </a:r>
            <a:endParaRPr b="1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aiandra GD"/>
              </a:rPr>
              <a:t>In contract to rodent’s adrenal the human adrenal produce sufficient androgens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Existence of  “back-door pathway” 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aiandra GD"/>
              </a:rPr>
              <a:t>The testosterone threshold to maintain erectile function is lower than needed for tissue functions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2565360"/>
            <a:ext cx="885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aiandra GD"/>
              </a:rPr>
              <a:t>“</a:t>
            </a:r>
            <a:r>
              <a:rPr b="1" lang="en-US" sz="6600" spc="-1" strike="noStrike">
                <a:solidFill>
                  <a:srgbClr val="000000"/>
                </a:solidFill>
                <a:latin typeface="Maiandra GD"/>
              </a:rPr>
              <a:t>back-door pathway”</a:t>
            </a:r>
            <a:r>
              <a:rPr b="1" lang="en-US" sz="5400" spc="-1" strike="noStrike">
                <a:solidFill>
                  <a:srgbClr val="000000"/>
                </a:solidFill>
                <a:latin typeface="Maiandra GD"/>
              </a:rPr>
              <a:t> </a:t>
            </a:r>
            <a:br>
              <a:rPr sz="5400"/>
            </a:br>
            <a:endParaRPr b="1" lang="en-US" sz="54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38" name=""/>
          <p:cNvSpPr/>
          <p:nvPr/>
        </p:nvSpPr>
        <p:spPr>
          <a:xfrm>
            <a:off x="-44280" y="5448240"/>
            <a:ext cx="91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aiandra GD"/>
              </a:rPr>
              <a:t>Direct conversion of progesterone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aiandra GD"/>
              </a:rPr>
              <a:t>DHT without formation of testoster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4306" t="0" r="8209" b="0"/>
          <a:stretch/>
        </p:blipFill>
        <p:spPr>
          <a:xfrm>
            <a:off x="250920" y="1628640"/>
            <a:ext cx="8785080" cy="37195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627280" y="1484280"/>
            <a:ext cx="1800360" cy="1513080"/>
          </a:xfrm>
          <a:prstGeom prst="rect">
            <a:avLst/>
          </a:prstGeom>
          <a:solidFill>
            <a:srgbClr val="cc33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43 -0.00023 L 0.50365 -0.0067 L 0.50487 0.31159 L -0.2493 0.31321 E">
                                      <p:cBhvr>
                                        <p:cTn id="50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aiandra GD"/>
              </a:rPr>
              <a:t>In humans the effect of castration on erectile function seems less drastic</a:t>
            </a:r>
            <a:endParaRPr b="1" lang="en-US" sz="40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aiandra GD"/>
              </a:rPr>
              <a:t>The human adrenal produce sufficient androgens which peripherally converted to testosterone and DHT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aiandra GD"/>
              </a:rPr>
              <a:t>Existence of  “back-door pathway”</a:t>
            </a: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The testosterone threshold to maintain erectile function is lower than needed for tissue functions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43" name=""/>
          <p:cNvSpPr/>
          <p:nvPr/>
        </p:nvSpPr>
        <p:spPr>
          <a:xfrm>
            <a:off x="287280" y="1989000"/>
            <a:ext cx="885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43280" y="18864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Castration cause decreased NOS but also decreased PDE5 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Decreased cGMP formation counterbalanced by a reduced cGMP hydrolysis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aiandra GD"/>
              </a:rPr>
              <a:t>Bettocch et al. The effects of androgen depletion on human erectile function: </a:t>
            </a:r>
            <a:r>
              <a:rPr b="1" lang="en-US" sz="3600" spc="-1" strike="noStrike">
                <a:solidFill>
                  <a:srgbClr val="cc3300"/>
                </a:solidFill>
                <a:latin typeface="Maiandra GD"/>
              </a:rPr>
              <a:t>a prospective study in male-to-female transsexuals.</a:t>
            </a:r>
            <a:r>
              <a:rPr b="1" lang="en-US" sz="3600" spc="-1" strike="noStrike">
                <a:solidFill>
                  <a:srgbClr val="000000"/>
                </a:solidFill>
                <a:latin typeface="Maiandra GD"/>
              </a:rPr>
              <a:t> </a:t>
            </a:r>
            <a:br>
              <a:rPr sz="3600"/>
            </a:br>
            <a:r>
              <a:rPr b="1" lang="en-US" sz="2000" spc="-1" strike="noStrike">
                <a:solidFill>
                  <a:srgbClr val="000000"/>
                </a:solidFill>
                <a:latin typeface="Maiandra GD"/>
              </a:rPr>
              <a:t>International Journal of Impotence Research 16: 544–546, 2004</a:t>
            </a:r>
            <a:r>
              <a:rPr b="1" lang="en-US" sz="2800" spc="-1" strike="noStrike">
                <a:solidFill>
                  <a:srgbClr val="000000"/>
                </a:solidFill>
                <a:latin typeface="Maiandra GD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94800" cy="504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aiandra GD"/>
              </a:rPr>
              <a:t>sexually induced erections are androgen independent</a:t>
            </a:r>
            <a:endParaRPr b="0" lang="en-US" sz="2800" spc="-1" strike="noStrike">
              <a:solidFill>
                <a:srgbClr val="000000"/>
              </a:solidFill>
              <a:latin typeface="Maiandra G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aiandra GD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24000" y="2781360"/>
          <a:ext cx="8496000" cy="2859120"/>
        </p:xfrm>
        <a:graphic>
          <a:graphicData uri="http://schemas.openxmlformats.org/drawingml/2006/table">
            <a:tbl>
              <a:tblPr/>
              <a:tblGrid>
                <a:gridCol w="6497640"/>
                <a:gridCol w="19983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aiandra GD"/>
                          <a:ea typeface="Times New Roman (Hebrew)"/>
                        </a:rPr>
                        <a:t>Affected by cast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aiandra GD"/>
                          <a:ea typeface="Times New Roman (Hebrew)"/>
                        </a:rPr>
                        <a:t>IIEF-15 questionnai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aiandra GD"/>
                          <a:ea typeface="Times New Roman (Hebrew)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aiandra GD"/>
                          <a:ea typeface="Times New Roman (Hebrew)"/>
                        </a:rPr>
                        <a:t>penile colour-doppler US after I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aiandra GD"/>
                          <a:ea typeface="Times New Roman (Hebrew)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aiandra GD"/>
                          <a:ea typeface="Times New Roman (Hebrew)"/>
                        </a:rPr>
                        <a:t>N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aiandra GD"/>
                          <a:ea typeface="Times New Roman (Hebrew)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9" name=""/>
          <p:cNvGrpSpPr/>
          <p:nvPr/>
        </p:nvGrpSpPr>
        <p:grpSpPr>
          <a:xfrm>
            <a:off x="539640" y="5142960"/>
            <a:ext cx="8367480" cy="1754280"/>
            <a:chOff x="539640" y="5142960"/>
            <a:chExt cx="8367480" cy="1754280"/>
          </a:xfrm>
        </p:grpSpPr>
        <p:sp>
          <p:nvSpPr>
            <p:cNvPr id="150" name=""/>
            <p:cNvSpPr/>
            <p:nvPr/>
          </p:nvSpPr>
          <p:spPr>
            <a:xfrm>
              <a:off x="539640" y="5950080"/>
              <a:ext cx="7777440" cy="94716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Maiandra GD"/>
                </a:rPr>
                <a:t>nocturnal erections are androgen-dependent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0656200">
              <a:off x="8027640" y="5229000"/>
              <a:ext cx="766800" cy="936360"/>
            </a:xfrm>
            <a:custGeom>
              <a:avLst/>
              <a:gdLst/>
              <a:ahLst/>
              <a:rect l="l" t="t" r="r" b="b"/>
              <a:pathLst>
                <a:path w="529" h="537">
                  <a:moveTo>
                    <a:pt x="0" y="356"/>
                  </a:moveTo>
                  <a:cubicBezTo>
                    <a:pt x="159" y="378"/>
                    <a:pt x="318" y="401"/>
                    <a:pt x="363" y="356"/>
                  </a:cubicBezTo>
                  <a:cubicBezTo>
                    <a:pt x="408" y="311"/>
                    <a:pt x="317" y="137"/>
                    <a:pt x="272" y="84"/>
                  </a:cubicBezTo>
                  <a:cubicBezTo>
                    <a:pt x="227" y="31"/>
                    <a:pt x="76" y="46"/>
                    <a:pt x="91" y="38"/>
                  </a:cubicBezTo>
                  <a:cubicBezTo>
                    <a:pt x="106" y="30"/>
                    <a:pt x="295" y="0"/>
                    <a:pt x="363" y="38"/>
                  </a:cubicBezTo>
                  <a:cubicBezTo>
                    <a:pt x="431" y="76"/>
                    <a:pt x="484" y="190"/>
                    <a:pt x="499" y="265"/>
                  </a:cubicBezTo>
                  <a:cubicBezTo>
                    <a:pt x="514" y="340"/>
                    <a:pt x="529" y="447"/>
                    <a:pt x="453" y="492"/>
                  </a:cubicBezTo>
                  <a:cubicBezTo>
                    <a:pt x="377" y="537"/>
                    <a:pt x="113" y="529"/>
                    <a:pt x="45" y="537"/>
                  </a:cubicBezTo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8112240" y="2492280"/>
            <a:ext cx="984240" cy="1970280"/>
          </a:xfrm>
          <a:custGeom>
            <a:avLst/>
            <a:gdLst/>
            <a:ahLst/>
            <a:rect l="l" t="t" r="r" b="b"/>
            <a:pathLst>
              <a:path w="620" h="1241">
                <a:moveTo>
                  <a:pt x="537" y="0"/>
                </a:moveTo>
                <a:cubicBezTo>
                  <a:pt x="578" y="423"/>
                  <a:pt x="620" y="847"/>
                  <a:pt x="537" y="1044"/>
                </a:cubicBezTo>
                <a:cubicBezTo>
                  <a:pt x="454" y="1241"/>
                  <a:pt x="76" y="1173"/>
                  <a:pt x="38" y="1180"/>
                </a:cubicBezTo>
                <a:cubicBezTo>
                  <a:pt x="0" y="1187"/>
                  <a:pt x="242" y="1119"/>
                  <a:pt x="310" y="1089"/>
                </a:cubicBezTo>
                <a:cubicBezTo>
                  <a:pt x="378" y="1059"/>
                  <a:pt x="416" y="1058"/>
                  <a:pt x="446" y="998"/>
                </a:cubicBezTo>
                <a:cubicBezTo>
                  <a:pt x="476" y="938"/>
                  <a:pt x="484" y="862"/>
                  <a:pt x="492" y="726"/>
                </a:cubicBezTo>
                <a:cubicBezTo>
                  <a:pt x="500" y="590"/>
                  <a:pt x="507" y="303"/>
                  <a:pt x="492" y="182"/>
                </a:cubicBezTo>
                <a:cubicBezTo>
                  <a:pt x="477" y="61"/>
                  <a:pt x="416" y="30"/>
                  <a:pt x="401" y="0"/>
                </a:cubicBezTo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140360" y="3357720"/>
            <a:ext cx="4859280" cy="4208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aiandra GD"/>
              </a:rPr>
              <a:t>Prevalence of hypogonadism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aiandra GD"/>
              </a:rPr>
              <a:t>in pati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aiandra GD"/>
              </a:rPr>
              <a:t>with 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360" y="-243360"/>
            <a:ext cx="9144000" cy="79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aiandra GD"/>
              </a:rPr>
              <a:t>Prevalence of hypogonadism in patients with ED</a:t>
            </a:r>
            <a:endParaRPr b="1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1989000"/>
            <a:ext cx="792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Between 10% and 20% of ED cases may be attributed to subnormal testosterone 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The prevalence of hypogonadism in men with ED ~5%. (</a:t>
            </a: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young</a:t>
            </a: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 0.8%- </a:t>
            </a: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older</a:t>
            </a: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 15%)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Does the prevalence of hypogonadism in ED different from that without ED</a:t>
            </a:r>
            <a:r>
              <a:rPr b="0" lang="he-IL" sz="3200" spc="-1" strike="noStrike">
                <a:solidFill>
                  <a:srgbClr val="000000"/>
                </a:solidFill>
                <a:latin typeface="Maiandra GD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360" y="-243360"/>
            <a:ext cx="9144000" cy="79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aiandra GD"/>
              </a:rPr>
              <a:t>Prevalence of hypogonadism in patients with ED</a:t>
            </a:r>
            <a:endParaRPr b="1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638172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ED is not associated with 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Total testosterone 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Bioavailable testosterone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Hormone-binding globulin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981000"/>
            <a:ext cx="95011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Results From the Massachusetts Male Aging Study</a:t>
            </a: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Kupelian et al. J Urol. 176: 2584-2588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360" y="-243360"/>
            <a:ext cx="9144000" cy="79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aiandra GD"/>
              </a:rPr>
              <a:t>Prevalence of hypogonadism in patients with ED</a:t>
            </a:r>
            <a:endParaRPr b="1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62" name=""/>
          <p:cNvSpPr/>
          <p:nvPr/>
        </p:nvSpPr>
        <p:spPr>
          <a:xfrm>
            <a:off x="826920" y="1989000"/>
            <a:ext cx="792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2391840"/>
            <a:ext cx="86868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001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In men with ED: total and free testosteron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aiandra GD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 related to sexual desire. 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339480" indent="-339480">
              <a:spcBef>
                <a:spcPts val="2001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Free testosterone (but not total) relate to quality and frequency of nocturnal erections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339480" indent="-339480">
              <a:spcBef>
                <a:spcPts val="2001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When ED is more severe - more probable that free testosterone levels are below normal.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692280"/>
            <a:ext cx="9036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iandra GD"/>
              </a:rPr>
              <a:t>Testosterone levels in men with 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Martínez</a:t>
            </a:r>
            <a:r>
              <a:rPr b="0" lang="he-IL" sz="2000" spc="-1" strike="noStrike">
                <a:solidFill>
                  <a:srgbClr val="000000"/>
                </a:solidFill>
                <a:latin typeface="Maiandra GD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Jabaloyas et al. </a:t>
            </a:r>
            <a:r>
              <a:rPr b="0" lang="pt-BR" sz="2000" spc="-1" strike="noStrike">
                <a:solidFill>
                  <a:srgbClr val="000000"/>
                </a:solidFill>
                <a:latin typeface="Maiandra GD"/>
              </a:rPr>
              <a:t>BJU 97: 1278–1283 2006</a:t>
            </a:r>
            <a:r>
              <a:rPr b="0" lang="pt-BR" sz="1800" spc="-1" strike="noStrike">
                <a:solidFill>
                  <a:srgbClr val="000000"/>
                </a:solidFill>
                <a:latin typeface="Maiandra G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aiandra GD"/>
              </a:rPr>
              <a:t>Age related testosterone deple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Maiandra GD"/>
              </a:rPr>
              <a:t>in patients with erectile dysfunction</a:t>
            </a:r>
            <a:endParaRPr b="1" lang="en-US" sz="40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50" name=""/>
          <p:cNvSpPr/>
          <p:nvPr/>
        </p:nvSpPr>
        <p:spPr>
          <a:xfrm>
            <a:off x="3907080" y="1341360"/>
            <a:ext cx="52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El</a:t>
            </a:r>
            <a:r>
              <a:rPr b="0" lang="he-IL" sz="2000" spc="-1" strike="noStrike">
                <a:solidFill>
                  <a:srgbClr val="000000"/>
                </a:solidFill>
                <a:latin typeface="Maiandra GD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Sakka et al. J Urol. 176: 2589-2593, 2006</a:t>
            </a:r>
            <a:r>
              <a:rPr b="0" lang="he-IL" sz="2000" spc="-1" strike="noStrike">
                <a:solidFill>
                  <a:srgbClr val="000000"/>
                </a:solidFill>
                <a:latin typeface="Maiandra G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90360" y="2205000"/>
            <a:ext cx="9332640" cy="2136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4920" y="4797360"/>
            <a:ext cx="8640720" cy="703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aiandra GD"/>
              </a:rPr>
              <a:t>A significant decrease in yearly mean testosterone level above ga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56720" y="3284640"/>
            <a:ext cx="671400" cy="1560240"/>
          </a:xfrm>
          <a:custGeom>
            <a:avLst/>
            <a:gdLst/>
            <a:ahLst/>
            <a:rect l="l" t="t" r="r" b="b"/>
            <a:pathLst>
              <a:path w="423" h="983">
                <a:moveTo>
                  <a:pt x="45" y="983"/>
                </a:moveTo>
                <a:cubicBezTo>
                  <a:pt x="173" y="899"/>
                  <a:pt x="302" y="816"/>
                  <a:pt x="317" y="756"/>
                </a:cubicBezTo>
                <a:cubicBezTo>
                  <a:pt x="332" y="696"/>
                  <a:pt x="189" y="658"/>
                  <a:pt x="136" y="620"/>
                </a:cubicBezTo>
                <a:cubicBezTo>
                  <a:pt x="83" y="582"/>
                  <a:pt x="0" y="597"/>
                  <a:pt x="0" y="529"/>
                </a:cubicBezTo>
                <a:cubicBezTo>
                  <a:pt x="0" y="461"/>
                  <a:pt x="98" y="294"/>
                  <a:pt x="136" y="211"/>
                </a:cubicBezTo>
                <a:cubicBezTo>
                  <a:pt x="174" y="128"/>
                  <a:pt x="189" y="60"/>
                  <a:pt x="227" y="30"/>
                </a:cubicBezTo>
                <a:cubicBezTo>
                  <a:pt x="265" y="0"/>
                  <a:pt x="363" y="23"/>
                  <a:pt x="363" y="30"/>
                </a:cubicBezTo>
                <a:cubicBezTo>
                  <a:pt x="363" y="37"/>
                  <a:pt x="265" y="30"/>
                  <a:pt x="227" y="75"/>
                </a:cubicBezTo>
                <a:cubicBezTo>
                  <a:pt x="189" y="120"/>
                  <a:pt x="159" y="234"/>
                  <a:pt x="136" y="302"/>
                </a:cubicBezTo>
                <a:cubicBezTo>
                  <a:pt x="113" y="370"/>
                  <a:pt x="68" y="439"/>
                  <a:pt x="91" y="484"/>
                </a:cubicBezTo>
                <a:cubicBezTo>
                  <a:pt x="114" y="529"/>
                  <a:pt x="219" y="536"/>
                  <a:pt x="272" y="574"/>
                </a:cubicBezTo>
                <a:cubicBezTo>
                  <a:pt x="325" y="612"/>
                  <a:pt x="393" y="642"/>
                  <a:pt x="408" y="710"/>
                </a:cubicBezTo>
                <a:cubicBezTo>
                  <a:pt x="423" y="778"/>
                  <a:pt x="393" y="880"/>
                  <a:pt x="363" y="983"/>
                </a:cubicBezTo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6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aiandra GD"/>
              </a:rPr>
              <a:t>No correlation between total testosterone levels and ED </a:t>
            </a:r>
            <a:endParaRPr b="1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66" name=""/>
          <p:cNvSpPr/>
          <p:nvPr/>
        </p:nvSpPr>
        <p:spPr>
          <a:xfrm>
            <a:off x="-239040" y="6319800"/>
            <a:ext cx="89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iandra GD"/>
              </a:rPr>
              <a:t>Rhoden et al. International Journal of Impotence Research 14: 167–171. 20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280360" cy="31896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24000" y="2637000"/>
            <a:ext cx="8280360" cy="720720"/>
          </a:xfrm>
          <a:prstGeom prst="rect">
            <a:avLst/>
          </a:prstGeom>
          <a:solidFill>
            <a:srgbClr val="ff33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479736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aiandra GD"/>
              </a:rPr>
              <a:t>Normal values for total testosterone: 241 – 827 ng/m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aiandra GD"/>
              </a:rPr>
              <a:t>No correlation between total testosterone levels and severity of ED </a:t>
            </a:r>
            <a:endParaRPr b="1" lang="en-US" sz="40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71" name=""/>
          <p:cNvSpPr/>
          <p:nvPr/>
        </p:nvSpPr>
        <p:spPr>
          <a:xfrm>
            <a:off x="-239040" y="6319800"/>
            <a:ext cx="89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iandra GD"/>
              </a:rPr>
              <a:t>Rhoden et al. International Journal of Impotence Research 14: 167–171. 20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842472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360" y="-243360"/>
            <a:ext cx="9144000" cy="79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aiandra GD"/>
              </a:rPr>
              <a:t>Prevalence of hypogonadism in patients with ED</a:t>
            </a:r>
            <a:endParaRPr b="1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74" name=""/>
          <p:cNvSpPr/>
          <p:nvPr/>
        </p:nvSpPr>
        <p:spPr>
          <a:xfrm>
            <a:off x="826920" y="1989000"/>
            <a:ext cx="792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No association of testosterone with EF has ever been found in cross sectional studi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Maiandra GD"/>
              </a:rPr>
              <a:t>when the data have been adjusted for age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Maiandra GD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Most studies failed to demonstrate a significant correlation between testosterone and EF</a:t>
            </a:r>
            <a:endParaRPr b="0" lang="en-US" sz="2800" spc="-1" strike="noStrike">
              <a:solidFill>
                <a:srgbClr val="000000"/>
              </a:solidFill>
              <a:latin typeface="Maiandra GD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Correlation studies do not support a major role of testosterone in erection. </a:t>
            </a:r>
            <a:endParaRPr b="0" lang="en-US" sz="2800" spc="-1" strike="noStrike">
              <a:solidFill>
                <a:srgbClr val="000000"/>
              </a:solidFill>
              <a:latin typeface="Maiandra GD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Most men included in these studies were eugonadal or only mildly hypogonadal. With severe degrees of hypogonadism, the relationship between ED and testosterone may be significant.</a:t>
            </a:r>
            <a:endParaRPr b="0" lang="en-US" sz="2000" spc="-1" strike="noStrike">
              <a:solidFill>
                <a:srgbClr val="000000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79280" y="2276640"/>
            <a:ext cx="5545080" cy="21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aiandra GD"/>
              </a:rPr>
              <a:t>The therapeutic role of testosterone in 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108360" y="-243360"/>
            <a:ext cx="9286920" cy="79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aiandra GD"/>
              </a:rPr>
              <a:t>The therapeutic role of testosterone in ED</a:t>
            </a:r>
            <a:endParaRPr b="1" lang="en-US" sz="36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78" name=""/>
          <p:cNvSpPr/>
          <p:nvPr/>
        </p:nvSpPr>
        <p:spPr>
          <a:xfrm>
            <a:off x="108000" y="1700280"/>
            <a:ext cx="885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4920" y="3068640"/>
            <a:ext cx="8785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Maiandra GD"/>
              </a:rPr>
              <a:t>Eugonadal men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Supraphysiological serum level - no significant effect on sexual function 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Maiandra GD"/>
              </a:rPr>
              <a:t>Hypogonadal men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mixed results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80" name=""/>
          <p:cNvSpPr/>
          <p:nvPr/>
        </p:nvSpPr>
        <p:spPr>
          <a:xfrm>
            <a:off x="833040" y="1916280"/>
            <a:ext cx="14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aiandra GD"/>
              </a:rPr>
              <a:t>T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108360" y="-243360"/>
            <a:ext cx="9286920" cy="79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aiandra GD"/>
              </a:rPr>
              <a:t>The therapeutic role of testosterone in ED</a:t>
            </a:r>
            <a:endParaRPr b="1" lang="en-US" sz="36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82" name=""/>
          <p:cNvSpPr/>
          <p:nvPr/>
        </p:nvSpPr>
        <p:spPr>
          <a:xfrm>
            <a:off x="108000" y="1700280"/>
            <a:ext cx="885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620640"/>
            <a:ext cx="87854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Testosterone supplementation for ED: Results of a meta-analysis</a:t>
            </a: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JAIN et al. J Urol. 164: 371-375,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680240" cy="268308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2544840" y="4005360"/>
            <a:ext cx="5483160" cy="1368000"/>
            <a:chOff x="2544840" y="4005360"/>
            <a:chExt cx="5483160" cy="1368000"/>
          </a:xfrm>
        </p:grpSpPr>
        <p:sp>
          <p:nvSpPr>
            <p:cNvPr id="186" name=""/>
            <p:cNvSpPr/>
            <p:nvPr/>
          </p:nvSpPr>
          <p:spPr>
            <a:xfrm>
              <a:off x="3924360" y="4005360"/>
              <a:ext cx="4103640" cy="671760"/>
            </a:xfrm>
            <a:prstGeom prst="rect">
              <a:avLst/>
            </a:prstGeom>
            <a:solidFill>
              <a:srgbClr val="cc33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44840" y="4379040"/>
              <a:ext cx="1379520" cy="994320"/>
            </a:xfrm>
            <a:custGeom>
              <a:avLst/>
              <a:gdLst/>
              <a:ahLst/>
              <a:rect l="l" t="t" r="r" b="b"/>
              <a:pathLst>
                <a:path w="959" h="582">
                  <a:moveTo>
                    <a:pt x="959" y="68"/>
                  </a:moveTo>
                  <a:cubicBezTo>
                    <a:pt x="846" y="34"/>
                    <a:pt x="733" y="0"/>
                    <a:pt x="642" y="68"/>
                  </a:cubicBezTo>
                  <a:cubicBezTo>
                    <a:pt x="551" y="136"/>
                    <a:pt x="475" y="432"/>
                    <a:pt x="415" y="477"/>
                  </a:cubicBezTo>
                  <a:cubicBezTo>
                    <a:pt x="355" y="522"/>
                    <a:pt x="347" y="326"/>
                    <a:pt x="279" y="341"/>
                  </a:cubicBezTo>
                  <a:cubicBezTo>
                    <a:pt x="211" y="356"/>
                    <a:pt x="14" y="552"/>
                    <a:pt x="7" y="567"/>
                  </a:cubicBezTo>
                  <a:cubicBezTo>
                    <a:pt x="0" y="582"/>
                    <a:pt x="181" y="431"/>
                    <a:pt x="234" y="431"/>
                  </a:cubicBezTo>
                  <a:cubicBezTo>
                    <a:pt x="287" y="431"/>
                    <a:pt x="264" y="559"/>
                    <a:pt x="324" y="567"/>
                  </a:cubicBezTo>
                  <a:cubicBezTo>
                    <a:pt x="384" y="575"/>
                    <a:pt x="529" y="538"/>
                    <a:pt x="597" y="477"/>
                  </a:cubicBezTo>
                  <a:cubicBezTo>
                    <a:pt x="665" y="416"/>
                    <a:pt x="673" y="257"/>
                    <a:pt x="733" y="204"/>
                  </a:cubicBezTo>
                  <a:cubicBezTo>
                    <a:pt x="793" y="151"/>
                    <a:pt x="876" y="155"/>
                    <a:pt x="959" y="159"/>
                  </a:cubicBezTo>
                </a:path>
              </a:pathLst>
            </a:custGeom>
            <a:solidFill>
              <a:srgbClr val="cc33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667640" cy="6831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aiandra GD"/>
              </a:rPr>
              <a:t>Effects of testosterone on sexual function in men: results of a meta-analysis. 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Maiandra GD"/>
              </a:rPr>
              <a:t>Isidori et al. Clin Endocr. 63: 381–394, 2005</a:t>
            </a:r>
            <a:endParaRPr b="1" lang="en-US" sz="20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2565360"/>
            <a:ext cx="1584360" cy="1224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aiandra GD"/>
              </a:rPr>
              <a:t>17</a:t>
            </a:r>
            <a:r>
              <a:rPr b="1" lang="en-US" sz="3200" spc="-1" strike="noStrike">
                <a:solidFill>
                  <a:srgbClr val="ffffff"/>
                </a:solidFill>
                <a:latin typeface="Maiandra G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aiandra GD"/>
              </a:rPr>
              <a:t>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108360" y="-243360"/>
            <a:ext cx="9286920" cy="79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aiandra GD"/>
              </a:rPr>
              <a:t>In hypogonadal men TRT moderately improved</a:t>
            </a:r>
            <a:endParaRPr b="1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192" name=""/>
          <p:cNvSpPr/>
          <p:nvPr/>
        </p:nvSpPr>
        <p:spPr>
          <a:xfrm>
            <a:off x="108000" y="1700280"/>
            <a:ext cx="885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4920" y="620640"/>
            <a:ext cx="5686560" cy="62197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340000" y="1341360"/>
            <a:ext cx="576360" cy="7164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24000" y="2060640"/>
            <a:ext cx="1295640" cy="730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68360" y="2997360"/>
            <a:ext cx="503280" cy="712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24000" y="3860640"/>
            <a:ext cx="719280" cy="730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79640" y="4437000"/>
            <a:ext cx="1008000" cy="7164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24000" y="5300640"/>
            <a:ext cx="1079640" cy="730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68360" y="6021360"/>
            <a:ext cx="648000" cy="7164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36840" y="981000"/>
            <a:ext cx="2520000" cy="3988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aiandra GD"/>
              </a:rPr>
              <a:t>Morning e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37200" y="1700280"/>
            <a:ext cx="2280960" cy="3988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aiandra GD"/>
              </a:rPr>
              <a:t>Erectil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95960" y="2565360"/>
            <a:ext cx="1785600" cy="3988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aiandra GD"/>
              </a:rPr>
              <a:t>Inter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38640" y="3429000"/>
            <a:ext cx="2489760" cy="3988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aiandra GD"/>
              </a:rPr>
              <a:t>Sexual 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90040" y="4221000"/>
            <a:ext cx="2645280" cy="3988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Maiandra GD"/>
              </a:rPr>
              <a:t>Sexual satisf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22440" y="4941720"/>
            <a:ext cx="2251800" cy="3988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aiandra GD"/>
              </a:rPr>
              <a:t>Sexual thou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6160" y="5661000"/>
            <a:ext cx="1953000" cy="3988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aiandra GD"/>
              </a:rPr>
              <a:t>Total e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6237360"/>
            <a:ext cx="9286920" cy="6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aiandra GD"/>
                <a:ea typeface="Times New Roman (Hebrew)"/>
              </a:rPr>
              <a:t>In eugonadal men TRT had no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aiandra GD"/>
              </a:rPr>
              <a:t>Bolona et al. </a:t>
            </a:r>
            <a:r>
              <a:rPr b="1" lang="es-ES" sz="3200" spc="-1" strike="noStrike">
                <a:solidFill>
                  <a:srgbClr val="000000"/>
                </a:solidFill>
                <a:latin typeface="Maiandra GD"/>
              </a:rPr>
              <a:t>Mayo Clin Proc. 82:20-28, 2007 </a:t>
            </a:r>
            <a:endParaRPr b="1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16360" y="1125360"/>
            <a:ext cx="2539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Testosterone use in men with sexual dysfunction: A systematic review and meta-analysis of randomized placebo-controlled trials</a:t>
            </a:r>
            <a:endParaRPr b="0" lang="en-US" sz="2800" spc="-1" strike="noStrike">
              <a:solidFill>
                <a:srgbClr val="000000"/>
              </a:solidFill>
              <a:latin typeface="Maiandra GD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6624720" cy="51818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403280" y="1268280"/>
            <a:ext cx="1008000" cy="648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aiandra GD"/>
              </a:rPr>
              <a:t>6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32000" y="3716280"/>
            <a:ext cx="1008000" cy="647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aiandra GD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361800"/>
            <a:ext cx="7120080" cy="64962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129200" y="2997360"/>
            <a:ext cx="1882800" cy="792000"/>
          </a:xfrm>
          <a:custGeom>
            <a:avLst/>
            <a:gdLst/>
            <a:ahLst/>
            <a:rect l="l" t="t" r="r" b="b"/>
            <a:pathLst>
              <a:path w="1186" h="499">
                <a:moveTo>
                  <a:pt x="1005" y="0"/>
                </a:moveTo>
                <a:cubicBezTo>
                  <a:pt x="975" y="79"/>
                  <a:pt x="945" y="159"/>
                  <a:pt x="869" y="227"/>
                </a:cubicBezTo>
                <a:cubicBezTo>
                  <a:pt x="793" y="295"/>
                  <a:pt x="694" y="378"/>
                  <a:pt x="551" y="408"/>
                </a:cubicBezTo>
                <a:cubicBezTo>
                  <a:pt x="408" y="438"/>
                  <a:pt x="14" y="393"/>
                  <a:pt x="7" y="408"/>
                </a:cubicBezTo>
                <a:cubicBezTo>
                  <a:pt x="0" y="423"/>
                  <a:pt x="362" y="499"/>
                  <a:pt x="506" y="499"/>
                </a:cubicBezTo>
                <a:cubicBezTo>
                  <a:pt x="650" y="499"/>
                  <a:pt x="771" y="453"/>
                  <a:pt x="869" y="408"/>
                </a:cubicBezTo>
                <a:cubicBezTo>
                  <a:pt x="967" y="363"/>
                  <a:pt x="1042" y="280"/>
                  <a:pt x="1095" y="227"/>
                </a:cubicBezTo>
                <a:cubicBezTo>
                  <a:pt x="1148" y="174"/>
                  <a:pt x="1167" y="132"/>
                  <a:pt x="1186" y="91"/>
                </a:cubicBezTo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4572000" cy="3988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aiandra GD"/>
              </a:rPr>
              <a:t>TRT in 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24360" y="1916280"/>
            <a:ext cx="3024360" cy="13136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aiandra GD"/>
              </a:rPr>
              <a:t>have a minimal to small favorable effect on ED  mainly in young men with low testoster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40360" y="4724280"/>
            <a:ext cx="3024360" cy="13136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aiandra GD"/>
              </a:rPr>
              <a:t>have a moderate to l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aiandra GD"/>
              </a:rPr>
              <a:t>favorable effect on lib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48360" y="1413000"/>
            <a:ext cx="1811160" cy="503280"/>
          </a:xfrm>
          <a:custGeom>
            <a:avLst/>
            <a:gdLst/>
            <a:ahLst/>
            <a:rect l="l" t="t" r="r" b="b"/>
            <a:pathLst>
              <a:path w="1141" h="317">
                <a:moveTo>
                  <a:pt x="952" y="317"/>
                </a:moveTo>
                <a:cubicBezTo>
                  <a:pt x="1046" y="230"/>
                  <a:pt x="1141" y="144"/>
                  <a:pt x="998" y="91"/>
                </a:cubicBezTo>
                <a:cubicBezTo>
                  <a:pt x="855" y="38"/>
                  <a:pt x="182" y="0"/>
                  <a:pt x="91" y="0"/>
                </a:cubicBezTo>
                <a:cubicBezTo>
                  <a:pt x="0" y="0"/>
                  <a:pt x="332" y="61"/>
                  <a:pt x="453" y="91"/>
                </a:cubicBezTo>
                <a:cubicBezTo>
                  <a:pt x="574" y="121"/>
                  <a:pt x="771" y="143"/>
                  <a:pt x="816" y="181"/>
                </a:cubicBezTo>
                <a:cubicBezTo>
                  <a:pt x="861" y="219"/>
                  <a:pt x="793" y="268"/>
                  <a:pt x="726" y="317"/>
                </a:cubicBezTo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489560" y="5084640"/>
            <a:ext cx="1522440" cy="312840"/>
          </a:xfrm>
          <a:custGeom>
            <a:avLst/>
            <a:gdLst/>
            <a:ahLst/>
            <a:rect l="l" t="t" r="r" b="b"/>
            <a:pathLst>
              <a:path w="959" h="197">
                <a:moveTo>
                  <a:pt x="959" y="136"/>
                </a:moveTo>
                <a:cubicBezTo>
                  <a:pt x="653" y="166"/>
                  <a:pt x="347" y="197"/>
                  <a:pt x="188" y="182"/>
                </a:cubicBezTo>
                <a:cubicBezTo>
                  <a:pt x="29" y="167"/>
                  <a:pt x="14" y="54"/>
                  <a:pt x="7" y="46"/>
                </a:cubicBezTo>
                <a:cubicBezTo>
                  <a:pt x="0" y="38"/>
                  <a:pt x="45" y="121"/>
                  <a:pt x="143" y="136"/>
                </a:cubicBezTo>
                <a:cubicBezTo>
                  <a:pt x="241" y="151"/>
                  <a:pt x="460" y="159"/>
                  <a:pt x="596" y="136"/>
                </a:cubicBezTo>
                <a:cubicBezTo>
                  <a:pt x="732" y="113"/>
                  <a:pt x="845" y="56"/>
                  <a:pt x="959" y="0"/>
                </a:cubicBezTo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284720" y="44280"/>
            <a:ext cx="48798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iandra GD"/>
              </a:rPr>
              <a:t>Bolona et al. </a:t>
            </a:r>
            <a:r>
              <a:rPr b="1" lang="es-ES" sz="1800" spc="-1" strike="noStrike">
                <a:solidFill>
                  <a:srgbClr val="000000"/>
                </a:solidFill>
                <a:latin typeface="Maiandra GD"/>
              </a:rPr>
              <a:t>Mayo Clin Proc. 82:20-28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aiandra GD"/>
              </a:rPr>
              <a:t>ED is associated with this age dependent  testosterone depletion</a:t>
            </a:r>
            <a:endParaRPr b="1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55" name=""/>
          <p:cNvSpPr/>
          <p:nvPr/>
        </p:nvSpPr>
        <p:spPr>
          <a:xfrm>
            <a:off x="3907080" y="1341360"/>
            <a:ext cx="52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El</a:t>
            </a:r>
            <a:r>
              <a:rPr b="0" lang="he-IL" sz="2000" spc="-1" strike="noStrike">
                <a:solidFill>
                  <a:srgbClr val="000000"/>
                </a:solidFill>
                <a:latin typeface="Maiandra GD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Sakka et al. J Urol. 176: 2589-2593, 2006</a:t>
            </a:r>
            <a:r>
              <a:rPr b="0" lang="he-IL" sz="2000" spc="-1" strike="noStrike">
                <a:solidFill>
                  <a:srgbClr val="000000"/>
                </a:solidFill>
                <a:latin typeface="Maiandra G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05080" y="1773360"/>
            <a:ext cx="5553000" cy="3962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59280" y="1700280"/>
            <a:ext cx="1657080" cy="4176720"/>
          </a:xfrm>
          <a:prstGeom prst="rect">
            <a:avLst/>
          </a:prstGeom>
          <a:solidFill>
            <a:srgbClr val="cc33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3357720"/>
            <a:ext cx="6050160" cy="863280"/>
          </a:xfrm>
          <a:prstGeom prst="rect">
            <a:avLst/>
          </a:prstGeom>
          <a:solidFill>
            <a:srgbClr val="cc33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79280" y="3630600"/>
            <a:ext cx="8640720" cy="3229560"/>
            <a:chOff x="179280" y="3630600"/>
            <a:chExt cx="8640720" cy="3229560"/>
          </a:xfrm>
        </p:grpSpPr>
        <p:sp>
          <p:nvSpPr>
            <p:cNvPr id="60" name=""/>
            <p:cNvSpPr/>
            <p:nvPr/>
          </p:nvSpPr>
          <p:spPr>
            <a:xfrm>
              <a:off x="179280" y="5791320"/>
              <a:ext cx="8640720" cy="10688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Maiandra GD"/>
                </a:rPr>
                <a:t>A significant association between decreased testosterone and increased severity of E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3994920" y="3630600"/>
              <a:ext cx="3095640" cy="2208240"/>
            </a:xfrm>
            <a:custGeom>
              <a:avLst/>
              <a:gdLst/>
              <a:ahLst/>
              <a:rect l="l" t="t" r="r" b="b"/>
              <a:pathLst>
                <a:path w="423" h="983">
                  <a:moveTo>
                    <a:pt x="45" y="983"/>
                  </a:moveTo>
                  <a:cubicBezTo>
                    <a:pt x="173" y="899"/>
                    <a:pt x="302" y="816"/>
                    <a:pt x="317" y="756"/>
                  </a:cubicBezTo>
                  <a:cubicBezTo>
                    <a:pt x="332" y="696"/>
                    <a:pt x="189" y="658"/>
                    <a:pt x="136" y="620"/>
                  </a:cubicBezTo>
                  <a:cubicBezTo>
                    <a:pt x="83" y="582"/>
                    <a:pt x="0" y="597"/>
                    <a:pt x="0" y="529"/>
                  </a:cubicBezTo>
                  <a:cubicBezTo>
                    <a:pt x="0" y="461"/>
                    <a:pt x="98" y="294"/>
                    <a:pt x="136" y="211"/>
                  </a:cubicBezTo>
                  <a:cubicBezTo>
                    <a:pt x="174" y="128"/>
                    <a:pt x="189" y="60"/>
                    <a:pt x="227" y="30"/>
                  </a:cubicBezTo>
                  <a:cubicBezTo>
                    <a:pt x="265" y="0"/>
                    <a:pt x="363" y="23"/>
                    <a:pt x="363" y="30"/>
                  </a:cubicBezTo>
                  <a:cubicBezTo>
                    <a:pt x="363" y="37"/>
                    <a:pt x="265" y="30"/>
                    <a:pt x="227" y="75"/>
                  </a:cubicBezTo>
                  <a:cubicBezTo>
                    <a:pt x="189" y="120"/>
                    <a:pt x="159" y="234"/>
                    <a:pt x="136" y="302"/>
                  </a:cubicBezTo>
                  <a:cubicBezTo>
                    <a:pt x="113" y="370"/>
                    <a:pt x="68" y="439"/>
                    <a:pt x="91" y="484"/>
                  </a:cubicBezTo>
                  <a:cubicBezTo>
                    <a:pt x="114" y="529"/>
                    <a:pt x="219" y="536"/>
                    <a:pt x="272" y="574"/>
                  </a:cubicBezTo>
                  <a:cubicBezTo>
                    <a:pt x="325" y="612"/>
                    <a:pt x="393" y="642"/>
                    <a:pt x="408" y="710"/>
                  </a:cubicBezTo>
                  <a:cubicBezTo>
                    <a:pt x="423" y="778"/>
                    <a:pt x="393" y="880"/>
                    <a:pt x="363" y="983"/>
                  </a:cubicBezTo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4716360" y="1700280"/>
            <a:ext cx="1224000" cy="4176720"/>
          </a:xfrm>
          <a:prstGeom prst="rect">
            <a:avLst/>
          </a:prstGeom>
          <a:solidFill>
            <a:srgbClr val="ffcc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108360" y="-243360"/>
            <a:ext cx="9286920" cy="79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aiandra GD"/>
              </a:rPr>
              <a:t>The therapeutic role of testosterone in ED</a:t>
            </a:r>
            <a:endParaRPr b="1" lang="en-US" sz="36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223" name=""/>
          <p:cNvSpPr/>
          <p:nvPr/>
        </p:nvSpPr>
        <p:spPr>
          <a:xfrm>
            <a:off x="108000" y="1700280"/>
            <a:ext cx="885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9280" y="62064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Mulhall et al. </a:t>
            </a: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UROLOGY 63: 348–353, 2004</a:t>
            </a: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3881160" cy="33098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219640" y="2133720"/>
            <a:ext cx="3479760" cy="3295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0" y="54849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Normalization of testosterone cause onl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Maiandra GD"/>
              </a:rPr>
              <a:t>short-term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improvement in erectile function and sexual satisf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98520" y="1772280"/>
            <a:ext cx="257040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erect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541840" y="1742040"/>
            <a:ext cx="280692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sexu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aiandra GD"/>
              </a:rPr>
              <a:t>satisf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92360" y="2697120"/>
            <a:ext cx="1942920" cy="587520"/>
          </a:xfrm>
          <a:custGeom>
            <a:avLst/>
            <a:gdLst/>
            <a:ahLst/>
            <a:rect l="l" t="t" r="r" b="b"/>
            <a:pathLst>
              <a:path w="1224" h="370">
                <a:moveTo>
                  <a:pt x="0" y="370"/>
                </a:moveTo>
                <a:cubicBezTo>
                  <a:pt x="64" y="264"/>
                  <a:pt x="128" y="159"/>
                  <a:pt x="181" y="98"/>
                </a:cubicBezTo>
                <a:cubicBezTo>
                  <a:pt x="234" y="37"/>
                  <a:pt x="234" y="0"/>
                  <a:pt x="317" y="7"/>
                </a:cubicBezTo>
                <a:cubicBezTo>
                  <a:pt x="400" y="14"/>
                  <a:pt x="529" y="90"/>
                  <a:pt x="680" y="143"/>
                </a:cubicBezTo>
                <a:cubicBezTo>
                  <a:pt x="831" y="196"/>
                  <a:pt x="1027" y="260"/>
                  <a:pt x="1224" y="325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00720" y="2924280"/>
            <a:ext cx="1871640" cy="7920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560" y="43920"/>
            <a:ext cx="9109080" cy="50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aiandra GD"/>
              </a:rPr>
              <a:t>The therapeutic role of testosterone in ED</a:t>
            </a:r>
            <a:endParaRPr b="1" lang="en-US" sz="36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233" name=""/>
          <p:cNvSpPr/>
          <p:nvPr/>
        </p:nvSpPr>
        <p:spPr>
          <a:xfrm>
            <a:off x="1547640" y="3284640"/>
            <a:ext cx="360360" cy="360360"/>
          </a:xfrm>
          <a:prstGeom prst="ellipse">
            <a:avLst/>
          </a:prstGeom>
          <a:gradFill rotWithShape="0">
            <a:gsLst>
              <a:gs pos="0">
                <a:srgbClr val="82828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79640" y="3284640"/>
            <a:ext cx="360360" cy="360360"/>
          </a:xfrm>
          <a:prstGeom prst="ellipse">
            <a:avLst/>
          </a:prstGeom>
          <a:gradFill rotWithShape="0">
            <a:gsLst>
              <a:gs pos="0">
                <a:srgbClr val="82828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14560" y="3284640"/>
            <a:ext cx="360360" cy="360360"/>
          </a:xfrm>
          <a:prstGeom prst="ellipse">
            <a:avLst/>
          </a:prstGeom>
          <a:gradFill rotWithShape="0">
            <a:gsLst>
              <a:gs pos="0">
                <a:srgbClr val="82828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9280" y="620640"/>
            <a:ext cx="8785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Testosterone gel normalizes androgen levels in aging males with improvements in sexual fun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Steidle et al J Clin Endocrinol Metab. 88 : 2673-81. 200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14360" y="3139920"/>
            <a:ext cx="8199360" cy="671760"/>
          </a:xfrm>
          <a:prstGeom prst="rect">
            <a:avLst/>
          </a:prstGeom>
          <a:solidFill>
            <a:srgbClr val="cc33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95280" y="3068640"/>
          <a:ext cx="8208720" cy="3529080"/>
        </p:xfrm>
        <a:graphic>
          <a:graphicData uri="http://schemas.openxmlformats.org/drawingml/2006/table">
            <a:tbl>
              <a:tblPr/>
              <a:tblGrid>
                <a:gridCol w="4906800"/>
                <a:gridCol w="3301920"/>
              </a:tblGrid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aiandra GD"/>
                          <a:ea typeface="Times New Roman (Hebrew)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aiandra GD"/>
                          <a:ea typeface="Times New Roman (Hebrew)"/>
                        </a:rPr>
                        <a:t>Spontaneous ere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aiandra GD"/>
                          <a:ea typeface="Times New Roman (Hebrew)"/>
                        </a:rPr>
                        <a:t>&lt;0.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aiandra GD"/>
                          <a:ea typeface="Times New Roman (Hebrew)"/>
                        </a:rPr>
                        <a:t>Sexual motiv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aiandra GD"/>
                          <a:ea typeface="Times New Roman (Hebrew)"/>
                        </a:rPr>
                        <a:t>&lt;0.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aiandra GD"/>
                          <a:ea typeface="Times New Roman (Hebrew)"/>
                        </a:rPr>
                        <a:t>Sexual des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aiandra GD"/>
                          <a:ea typeface="Times New Roman (Hebrew)"/>
                        </a:rPr>
                        <a:t>&lt;0.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aiandra GD"/>
                          <a:ea typeface="Times New Roman (Hebrew)"/>
                        </a:rPr>
                        <a:t>Sexual perform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aiandra GD"/>
                          <a:ea typeface="Times New Roman (Hebrew)"/>
                        </a:rPr>
                        <a:t>&lt;0.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430200" y="249228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a significant improvement over placebo and bas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 flipH="1" rot="21004200">
            <a:off x="2770920" y="4005000"/>
            <a:ext cx="2089440" cy="259236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523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aiandra GD"/>
              </a:rPr>
              <a:t>Conclusions obtained from studies of treatment of ED with testosterone</a:t>
            </a:r>
            <a:endParaRPr b="1" lang="en-US" sz="4000" spc="-1" strike="noStrike">
              <a:solidFill>
                <a:srgbClr val="000000"/>
              </a:solidFill>
              <a:latin typeface="Maiandra GD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rcRect l="0" t="13758" r="0" b="0"/>
          <a:stretch/>
        </p:blipFill>
        <p:spPr>
          <a:xfrm>
            <a:off x="0" y="1733400"/>
            <a:ext cx="6916680" cy="48355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588000" y="6419880"/>
            <a:ext cx="255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68360" y="2708280"/>
            <a:ext cx="158292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08000" y="4508640"/>
            <a:ext cx="201636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348000" y="4221000"/>
            <a:ext cx="10796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76360" y="5445000"/>
            <a:ext cx="719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8360" y="5734080"/>
            <a:ext cx="16556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22 0.01041 L 0.39757 -1.02244E-006 E">
                                      <p:cBhvr>
                                        <p:cTn id="107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704000" cy="244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aiandra GD"/>
              </a:rPr>
              <a:t>The role of combination therapy testosterone + PDE5 inhibitors</a:t>
            </a:r>
            <a:endParaRPr b="1" lang="en-US" sz="5400" spc="-1" strike="noStrike">
              <a:solidFill>
                <a:srgbClr val="000000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aiandra GD"/>
              </a:rPr>
              <a:t>Assessing combined therapy with testosterone plus sildenafil in men with ED unresponsive to monotherapy</a:t>
            </a:r>
            <a:endParaRPr b="1" lang="en-US" sz="4000" spc="-1" strike="noStrike">
              <a:solidFill>
                <a:srgbClr val="000000"/>
              </a:solidFill>
              <a:latin typeface="Maiandra GD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0" y="2852640"/>
            <a:ext cx="9143640" cy="3311280"/>
            <a:chOff x="0" y="2852640"/>
            <a:chExt cx="9143640" cy="3311280"/>
          </a:xfrm>
        </p:grpSpPr>
        <p:pic>
          <p:nvPicPr>
            <p:cNvPr id="252" name="" descr=""/>
            <p:cNvPicPr/>
            <p:nvPr/>
          </p:nvPicPr>
          <p:blipFill>
            <a:blip r:embed="rId1"/>
            <a:srcRect l="0" t="0" r="54433" b="0"/>
            <a:stretch/>
          </p:blipFill>
          <p:spPr>
            <a:xfrm>
              <a:off x="0" y="2852640"/>
              <a:ext cx="5699520" cy="33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2"/>
            <a:srcRect l="72086" t="0" r="0" b="0"/>
            <a:stretch/>
          </p:blipFill>
          <p:spPr>
            <a:xfrm>
              <a:off x="5652000" y="2852640"/>
              <a:ext cx="3491640" cy="331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"/>
          <p:cNvSpPr/>
          <p:nvPr/>
        </p:nvSpPr>
        <p:spPr>
          <a:xfrm>
            <a:off x="0" y="4797360"/>
            <a:ext cx="9144000" cy="360360"/>
          </a:xfrm>
          <a:prstGeom prst="rect">
            <a:avLst/>
          </a:prstGeom>
          <a:solidFill>
            <a:srgbClr val="ff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aiandra GD"/>
              </a:rPr>
              <a:t>Testosterone therapy is able to improve erectile function and the response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Maiandra GD"/>
              </a:rPr>
              <a:t>PDE5-inhibitors in patients with ED and…</a:t>
            </a:r>
            <a:endParaRPr b="1" lang="en-US" sz="36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Hypogonadism</a:t>
            </a:r>
            <a:endParaRPr b="0" lang="en-US" sz="2400" spc="-1" strike="noStrike">
              <a:solidFill>
                <a:srgbClr val="000000"/>
              </a:solidFill>
              <a:latin typeface="Maiandra G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Men with LOH symptoms </a:t>
            </a:r>
            <a:endParaRPr b="0" lang="en-US" sz="2400" spc="-1" strike="noStrike">
              <a:solidFill>
                <a:srgbClr val="000000"/>
              </a:solidFill>
              <a:latin typeface="Maiandra G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Eugonadal patients who did not respond to sildenafil by </a:t>
            </a:r>
            <a:endParaRPr b="0" lang="en-US" sz="2400" spc="-1" strike="noStrike">
              <a:solidFill>
                <a:srgbClr val="000000"/>
              </a:solidFill>
              <a:latin typeface="Maiandra G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Improving sexual desire </a:t>
            </a:r>
            <a:endParaRPr b="0" lang="en-US" sz="2400" spc="-1" strike="noStrike">
              <a:solidFill>
                <a:srgbClr val="000000"/>
              </a:solidFill>
              <a:latin typeface="Maiandra G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Orgasmic function </a:t>
            </a:r>
            <a:endParaRPr b="0" lang="en-US" sz="2400" spc="-1" strike="noStrike">
              <a:solidFill>
                <a:srgbClr val="000000"/>
              </a:solidFill>
              <a:latin typeface="Maiandra G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Increasing arterial inflow </a:t>
            </a:r>
            <a:endParaRPr b="0" lang="en-US" sz="2400" spc="-1" strike="noStrike">
              <a:solidFill>
                <a:srgbClr val="000000"/>
              </a:solidFill>
              <a:latin typeface="Maiandra G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Patients with comorbid conditions</a:t>
            </a:r>
            <a:endParaRPr b="0" lang="en-US" sz="2400" spc="-1" strike="noStrike">
              <a:solidFill>
                <a:srgbClr val="000000"/>
              </a:solidFill>
              <a:latin typeface="Maiandra G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Renal transplant patients </a:t>
            </a:r>
            <a:endParaRPr b="0" lang="en-US" sz="2400" spc="-1" strike="noStrike">
              <a:solidFill>
                <a:srgbClr val="000000"/>
              </a:solidFill>
              <a:latin typeface="Maiandra G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Patients on renal dialysis</a:t>
            </a:r>
            <a:endParaRPr b="0" lang="en-US" sz="2400" spc="-1" strike="noStrike">
              <a:solidFill>
                <a:srgbClr val="000000"/>
              </a:solidFill>
              <a:latin typeface="Maiandra G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Type II diabetes</a:t>
            </a:r>
            <a:endParaRPr b="0" lang="en-US" sz="2400" spc="-1" strike="noStrike">
              <a:solidFill>
                <a:srgbClr val="000000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86840" y="1267200"/>
            <a:ext cx="8800560" cy="764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aiandra GD"/>
              </a:rPr>
              <a:t>Testosterone sup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19280" y="4507560"/>
            <a:ext cx="59054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aiandra GD"/>
              </a:rPr>
              <a:t>PDE5-inhibi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674520" y="2780640"/>
            <a:ext cx="182664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aiandra GD"/>
              </a:rPr>
              <a:t>Failed</a:t>
            </a:r>
            <a:r>
              <a:rPr b="1" lang="en-US" sz="3600" spc="-1" strike="noStrike">
                <a:solidFill>
                  <a:srgbClr val="000000"/>
                </a:solidFill>
                <a:latin typeface="Maiandra GD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0" y="198900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0" y="3429000"/>
            <a:ext cx="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95640" y="3731040"/>
            <a:ext cx="112716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aiandra GD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604 0.00555 C -0.21007 0.04812 -0.2441 0.09068 -0.25486 0.15129 C -0.26563 0.21189 -0.27518 0.31229 -0.2408 0.36919 C -0.20643 0.4261 -0.09167 0.47606 -0.04896 0.49295 C -0.00625 0.50983 0.00503 0.47467 0.0158 0.47097 E">
                                      <p:cBhvr>
                                        <p:cTn id="120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326 0.01573 C -0.08646 0.01434 -0.04948 0.01295 -0.01614 -0.00162 C 0.01719 -0.01619 0.05035 -0.02151 0.07674 -0.07217 C 0.10313 -0.12283 0.13663 -0.24289 0.14254 -0.30581 C 0.14844 -0.36873 0.13455 -0.42309 0.11198 -0.44992 C 0.08941 -0.47675 0.04826 -0.47213 0.00729 -0.46727 E">
                                      <p:cBhvr>
                                        <p:cTn id="122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86840" y="1267200"/>
            <a:ext cx="8800560" cy="764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aiandra GD"/>
              </a:rPr>
              <a:t>Testosterone sup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08000" y="4172400"/>
            <a:ext cx="5361120" cy="1434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aiandra GD"/>
              </a:rPr>
              <a:t>Add PDE5-inhibi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74520" y="2780640"/>
            <a:ext cx="182664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aiandra GD"/>
              </a:rPr>
              <a:t>Failed</a:t>
            </a:r>
            <a:r>
              <a:rPr b="1" lang="en-US" sz="3600" spc="-1" strike="noStrike">
                <a:solidFill>
                  <a:srgbClr val="000000"/>
                </a:solidFill>
                <a:latin typeface="Maiandra GD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0" y="198900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0" y="3429000"/>
            <a:ext cx="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9640" y="189000"/>
            <a:ext cx="878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aiandra GD"/>
                <a:ea typeface="Times New Roman (Hebrew)"/>
              </a:rPr>
              <a:t>Greenstein et al. J Urol.</a:t>
            </a:r>
            <a:r>
              <a:rPr b="1" lang="he-IL" sz="3200" spc="-1" strike="noStrike">
                <a:solidFill>
                  <a:srgbClr val="000000"/>
                </a:solidFill>
                <a:latin typeface="Maiandra GD"/>
                <a:ea typeface="Times New Roman (Hebrew)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aiandra GD"/>
                <a:ea typeface="Times New Roman (Hebrew)"/>
              </a:rPr>
              <a:t>173: 530–532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878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aiandra GD"/>
              </a:rPr>
              <a:t>Greenstein et al. J Urol.</a:t>
            </a:r>
            <a:r>
              <a:rPr b="1" lang="he-IL" sz="3200" spc="-1" strike="noStrike">
                <a:solidFill>
                  <a:srgbClr val="000000"/>
                </a:solidFill>
                <a:latin typeface="Maiandra GD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aiandra GD"/>
              </a:rPr>
              <a:t>173: 530–532, 2005</a:t>
            </a:r>
            <a:endParaRPr b="1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6756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31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after testosterone alone</a:t>
            </a:r>
            <a:endParaRPr b="0" lang="en-US" sz="2800" spc="-1" strike="noStrike">
              <a:solidFill>
                <a:srgbClr val="000000"/>
              </a:solidFill>
              <a:latin typeface="Maiandra GD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rcRect l="0" t="0" r="50868" b="0"/>
          <a:stretch/>
        </p:blipFill>
        <p:spPr>
          <a:xfrm>
            <a:off x="1116000" y="2205000"/>
            <a:ext cx="7129440" cy="43531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5867280" y="4221000"/>
            <a:ext cx="1225800" cy="2448000"/>
          </a:xfrm>
          <a:prstGeom prst="rect">
            <a:avLst/>
          </a:prstGeom>
          <a:solidFill>
            <a:srgbClr val="cc33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835280" y="2852640"/>
            <a:ext cx="1511280" cy="0"/>
          </a:xfrm>
          <a:prstGeom prst="line">
            <a:avLst/>
          </a:prstGeom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19280" y="2637000"/>
            <a:ext cx="431640" cy="43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aiandra GD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503720" y="1125360"/>
            <a:ext cx="356832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aiandra GD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Maiandra GD"/>
              </a:rPr>
              <a:t>yes” to the GA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rcRect l="48751" t="0" r="0" b="0"/>
          <a:stretch/>
        </p:blipFill>
        <p:spPr>
          <a:xfrm>
            <a:off x="1042920" y="2276640"/>
            <a:ext cx="7272360" cy="425736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878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aiandra GD"/>
              </a:rPr>
              <a:t>Greenstein et al. J Urol.</a:t>
            </a:r>
            <a:r>
              <a:rPr b="1" lang="he-IL" sz="3200" spc="-1" strike="noStrike">
                <a:solidFill>
                  <a:srgbClr val="000000"/>
                </a:solidFill>
                <a:latin typeface="Maiandra GD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aiandra GD"/>
              </a:rPr>
              <a:t>173: 530–532, 2005</a:t>
            </a:r>
            <a:endParaRPr b="1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17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after testosterone alone in spite of normalization of testosterone values</a:t>
            </a:r>
            <a:endParaRPr b="0" lang="en-US" sz="28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279" name=""/>
          <p:cNvSpPr/>
          <p:nvPr/>
        </p:nvSpPr>
        <p:spPr>
          <a:xfrm>
            <a:off x="5867280" y="4221000"/>
            <a:ext cx="1225800" cy="2448000"/>
          </a:xfrm>
          <a:prstGeom prst="rect">
            <a:avLst/>
          </a:prstGeom>
          <a:solidFill>
            <a:srgbClr val="cc33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547640" y="3284640"/>
            <a:ext cx="1871640" cy="431640"/>
            <a:chOff x="1547640" y="3284640"/>
            <a:chExt cx="1871640" cy="431640"/>
          </a:xfrm>
        </p:grpSpPr>
        <p:sp>
          <p:nvSpPr>
            <p:cNvPr id="281" name=""/>
            <p:cNvSpPr/>
            <p:nvPr/>
          </p:nvSpPr>
          <p:spPr>
            <a:xfrm flipH="1">
              <a:off x="1907640" y="3500280"/>
              <a:ext cx="1511640" cy="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547640" y="3284640"/>
              <a:ext cx="432000" cy="43164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Maiandra GD"/>
                </a:rPr>
                <a:t>2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1615680" y="1125360"/>
            <a:ext cx="3411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aiandra GD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Maiandra GD"/>
              </a:rPr>
              <a:t>no” to the GA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547640" y="2708280"/>
            <a:ext cx="3888000" cy="685800"/>
            <a:chOff x="1547640" y="2708280"/>
            <a:chExt cx="3888000" cy="685800"/>
          </a:xfrm>
        </p:grpSpPr>
        <p:sp>
          <p:nvSpPr>
            <p:cNvPr id="285" name=""/>
            <p:cNvSpPr/>
            <p:nvPr/>
          </p:nvSpPr>
          <p:spPr>
            <a:xfrm>
              <a:off x="1547640" y="2708280"/>
              <a:ext cx="432000" cy="43164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Maiandra GD"/>
                </a:rPr>
                <a:t>2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979640" y="2887560"/>
              <a:ext cx="3456000" cy="506520"/>
            </a:xfrm>
            <a:custGeom>
              <a:avLst/>
              <a:gdLst/>
              <a:ahLst/>
              <a:rect l="l" t="t" r="r" b="b"/>
              <a:pathLst>
                <a:path w="2177" h="319">
                  <a:moveTo>
                    <a:pt x="0" y="23"/>
                  </a:moveTo>
                  <a:cubicBezTo>
                    <a:pt x="374" y="11"/>
                    <a:pt x="749" y="0"/>
                    <a:pt x="953" y="23"/>
                  </a:cubicBezTo>
                  <a:cubicBezTo>
                    <a:pt x="1157" y="46"/>
                    <a:pt x="1180" y="115"/>
                    <a:pt x="1225" y="160"/>
                  </a:cubicBezTo>
                  <a:cubicBezTo>
                    <a:pt x="1270" y="205"/>
                    <a:pt x="1066" y="273"/>
                    <a:pt x="1225" y="296"/>
                  </a:cubicBezTo>
                  <a:cubicBezTo>
                    <a:pt x="1384" y="319"/>
                    <a:pt x="1780" y="307"/>
                    <a:pt x="2177" y="296"/>
                  </a:cubicBezTo>
                </a:path>
              </a:pathLst>
            </a:custGeom>
            <a:noFill/>
            <a:ln w="28440">
              <a:solidFill>
                <a:srgbClr val="cc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623736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765000"/>
            <a:ext cx="4859280" cy="503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aiandra GD"/>
              </a:rPr>
              <a:t>Role of testosterone i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aiandra GD"/>
              </a:rPr>
              <a:t>the physiology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aiandra GD"/>
              </a:rPr>
              <a:t>of ere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5920" y="2635920"/>
            <a:ext cx="8800560" cy="764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aiandra GD"/>
              </a:rPr>
              <a:t>Testosterone sup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17360" y="3860280"/>
            <a:ext cx="182664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aiandra GD"/>
              </a:rPr>
              <a:t>Failed</a:t>
            </a:r>
            <a:r>
              <a:rPr b="1" lang="en-US" sz="3600" spc="-1" strike="noStrike">
                <a:solidFill>
                  <a:srgbClr val="000000"/>
                </a:solidFill>
                <a:latin typeface="Maiandra GD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45080" y="184464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43280" y="3284640"/>
            <a:ext cx="0" cy="57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32000" y="765000"/>
            <a:ext cx="8062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aiandra GD"/>
                <a:ea typeface="Times New Roman (Hebrew)"/>
              </a:rPr>
              <a:t>Hwang et al. Int J Impotece Res 18: 400–404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340000" y="5084280"/>
            <a:ext cx="42717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aiandra GD"/>
              </a:rPr>
              <a:t>PDE5-inhibitors  +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00000" y="5733360"/>
            <a:ext cx="7561440" cy="6426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aiandra GD"/>
              </a:rPr>
              <a:t>Testosterone sup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4508640"/>
            <a:ext cx="0" cy="57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187920"/>
            <a:ext cx="9144000" cy="764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aiandra GD"/>
              </a:rPr>
              <a:t>32 hypogonadal men with 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484360" y="1076760"/>
            <a:ext cx="4272120" cy="1434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aiandra GD"/>
              </a:rPr>
              <a:t>PDE5-inhibi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60360" y="115920"/>
            <a:ext cx="878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aiandra GD"/>
                <a:ea typeface="Times New Roman (Hebrew)"/>
              </a:rPr>
              <a:t>Hwang et al. Int J Impotece Res 18: 400–404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0" t="0" r="42797" b="0"/>
          <a:stretch/>
        </p:blipFill>
        <p:spPr>
          <a:xfrm>
            <a:off x="1187280" y="1484280"/>
            <a:ext cx="6444000" cy="1468440"/>
          </a:xfrm>
          <a:prstGeom prst="rect">
            <a:avLst/>
          </a:prstGeom>
          <a:ln w="0">
            <a:noFill/>
          </a:ln>
        </p:spPr>
      </p:pic>
      <p:grpSp>
        <p:nvGrpSpPr>
          <p:cNvPr id="299" name=""/>
          <p:cNvGrpSpPr/>
          <p:nvPr/>
        </p:nvGrpSpPr>
        <p:grpSpPr>
          <a:xfrm>
            <a:off x="971640" y="3068640"/>
            <a:ext cx="7561080" cy="1917360"/>
            <a:chOff x="971640" y="3068640"/>
            <a:chExt cx="7561080" cy="1917360"/>
          </a:xfrm>
        </p:grpSpPr>
        <p:sp>
          <p:nvSpPr>
            <p:cNvPr id="300" name=""/>
            <p:cNvSpPr/>
            <p:nvPr/>
          </p:nvSpPr>
          <p:spPr>
            <a:xfrm>
              <a:off x="3059280" y="3068640"/>
              <a:ext cx="2136600" cy="1271520"/>
            </a:xfrm>
            <a:custGeom>
              <a:avLst/>
              <a:gdLst/>
              <a:ahLst/>
              <a:rect l="l" t="t" r="r" b="b"/>
              <a:pathLst>
                <a:path w="1346" h="801">
                  <a:moveTo>
                    <a:pt x="1285" y="317"/>
                  </a:moveTo>
                  <a:cubicBezTo>
                    <a:pt x="1315" y="271"/>
                    <a:pt x="1346" y="226"/>
                    <a:pt x="1240" y="181"/>
                  </a:cubicBezTo>
                  <a:cubicBezTo>
                    <a:pt x="1134" y="136"/>
                    <a:pt x="816" y="0"/>
                    <a:pt x="650" y="45"/>
                  </a:cubicBezTo>
                  <a:cubicBezTo>
                    <a:pt x="484" y="90"/>
                    <a:pt x="310" y="347"/>
                    <a:pt x="242" y="453"/>
                  </a:cubicBezTo>
                  <a:cubicBezTo>
                    <a:pt x="174" y="559"/>
                    <a:pt x="280" y="635"/>
                    <a:pt x="242" y="680"/>
                  </a:cubicBezTo>
                  <a:cubicBezTo>
                    <a:pt x="204" y="725"/>
                    <a:pt x="0" y="710"/>
                    <a:pt x="15" y="725"/>
                  </a:cubicBezTo>
                  <a:cubicBezTo>
                    <a:pt x="30" y="740"/>
                    <a:pt x="272" y="801"/>
                    <a:pt x="332" y="771"/>
                  </a:cubicBezTo>
                  <a:cubicBezTo>
                    <a:pt x="392" y="741"/>
                    <a:pt x="348" y="627"/>
                    <a:pt x="378" y="544"/>
                  </a:cubicBezTo>
                  <a:cubicBezTo>
                    <a:pt x="408" y="461"/>
                    <a:pt x="438" y="325"/>
                    <a:pt x="514" y="272"/>
                  </a:cubicBezTo>
                  <a:cubicBezTo>
                    <a:pt x="590" y="219"/>
                    <a:pt x="748" y="211"/>
                    <a:pt x="831" y="226"/>
                  </a:cubicBezTo>
                  <a:cubicBezTo>
                    <a:pt x="914" y="241"/>
                    <a:pt x="963" y="301"/>
                    <a:pt x="1013" y="362"/>
                  </a:cubicBezTo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1" name="" descr=""/>
            <p:cNvPicPr/>
            <p:nvPr/>
          </p:nvPicPr>
          <p:blipFill>
            <a:blip r:embed="rId2"/>
            <a:srcRect l="61345" t="0" r="19530" b="0"/>
            <a:stretch/>
          </p:blipFill>
          <p:spPr>
            <a:xfrm>
              <a:off x="971640" y="3284640"/>
              <a:ext cx="208764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4643280" y="3429000"/>
              <a:ext cx="3889440" cy="15570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aiandra GD"/>
                </a:rPr>
                <a:t>1/3 of hypogonad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aiandra GD"/>
                </a:rPr>
                <a:t>men with ED who failed sildenafil, responded to testosterone al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755640" y="5084640"/>
            <a:ext cx="7529400" cy="1701720"/>
            <a:chOff x="755640" y="5084640"/>
            <a:chExt cx="7529400" cy="1701720"/>
          </a:xfrm>
        </p:grpSpPr>
        <p:pic>
          <p:nvPicPr>
            <p:cNvPr id="304" name="" descr=""/>
            <p:cNvPicPr/>
            <p:nvPr/>
          </p:nvPicPr>
          <p:blipFill>
            <a:blip r:embed="rId3"/>
            <a:srcRect l="80486" t="0" r="0" b="0"/>
            <a:stretch/>
          </p:blipFill>
          <p:spPr>
            <a:xfrm>
              <a:off x="6154560" y="5084640"/>
              <a:ext cx="2130480" cy="14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755640" y="5229360"/>
              <a:ext cx="4390920" cy="15570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aiandra GD"/>
                </a:rPr>
                <a:t>another 1/3 responded to sildenafil again after normalization of testosteron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75280" y="5337000"/>
              <a:ext cx="1295280" cy="839880"/>
            </a:xfrm>
            <a:custGeom>
              <a:avLst/>
              <a:gdLst/>
              <a:ahLst/>
              <a:rect l="l" t="t" r="r" b="b"/>
              <a:pathLst>
                <a:path w="816" h="529">
                  <a:moveTo>
                    <a:pt x="0" y="23"/>
                  </a:moveTo>
                  <a:cubicBezTo>
                    <a:pt x="79" y="11"/>
                    <a:pt x="159" y="0"/>
                    <a:pt x="227" y="23"/>
                  </a:cubicBezTo>
                  <a:cubicBezTo>
                    <a:pt x="295" y="46"/>
                    <a:pt x="370" y="106"/>
                    <a:pt x="408" y="159"/>
                  </a:cubicBezTo>
                  <a:cubicBezTo>
                    <a:pt x="446" y="212"/>
                    <a:pt x="423" y="295"/>
                    <a:pt x="453" y="340"/>
                  </a:cubicBezTo>
                  <a:cubicBezTo>
                    <a:pt x="483" y="385"/>
                    <a:pt x="529" y="423"/>
                    <a:pt x="589" y="431"/>
                  </a:cubicBezTo>
                  <a:cubicBezTo>
                    <a:pt x="649" y="439"/>
                    <a:pt x="816" y="371"/>
                    <a:pt x="816" y="386"/>
                  </a:cubicBezTo>
                  <a:cubicBezTo>
                    <a:pt x="816" y="401"/>
                    <a:pt x="672" y="515"/>
                    <a:pt x="589" y="522"/>
                  </a:cubicBezTo>
                  <a:cubicBezTo>
                    <a:pt x="506" y="529"/>
                    <a:pt x="377" y="484"/>
                    <a:pt x="317" y="431"/>
                  </a:cubicBezTo>
                  <a:cubicBezTo>
                    <a:pt x="257" y="378"/>
                    <a:pt x="280" y="242"/>
                    <a:pt x="227" y="204"/>
                  </a:cubicBezTo>
                  <a:cubicBezTo>
                    <a:pt x="174" y="166"/>
                    <a:pt x="87" y="185"/>
                    <a:pt x="0" y="204"/>
                  </a:cubicBezTo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7740720" y="1484280"/>
            <a:ext cx="1365120" cy="16185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No responsed to sildenafil al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216480" y="933480"/>
            <a:ext cx="2411640" cy="803160"/>
          </a:xfrm>
          <a:custGeom>
            <a:avLst/>
            <a:gdLst/>
            <a:ahLst/>
            <a:rect l="l" t="t" r="r" b="b"/>
            <a:pathLst>
              <a:path w="1519" h="506">
                <a:moveTo>
                  <a:pt x="1459" y="347"/>
                </a:moveTo>
                <a:cubicBezTo>
                  <a:pt x="1489" y="260"/>
                  <a:pt x="1519" y="174"/>
                  <a:pt x="1413" y="121"/>
                </a:cubicBezTo>
                <a:cubicBezTo>
                  <a:pt x="1307" y="68"/>
                  <a:pt x="998" y="38"/>
                  <a:pt x="824" y="30"/>
                </a:cubicBezTo>
                <a:cubicBezTo>
                  <a:pt x="650" y="22"/>
                  <a:pt x="506" y="0"/>
                  <a:pt x="370" y="75"/>
                </a:cubicBezTo>
                <a:cubicBezTo>
                  <a:pt x="234" y="150"/>
                  <a:pt x="14" y="460"/>
                  <a:pt x="7" y="483"/>
                </a:cubicBezTo>
                <a:cubicBezTo>
                  <a:pt x="0" y="506"/>
                  <a:pt x="189" y="271"/>
                  <a:pt x="325" y="211"/>
                </a:cubicBezTo>
                <a:cubicBezTo>
                  <a:pt x="461" y="151"/>
                  <a:pt x="680" y="128"/>
                  <a:pt x="824" y="121"/>
                </a:cubicBezTo>
                <a:cubicBezTo>
                  <a:pt x="968" y="114"/>
                  <a:pt x="1096" y="143"/>
                  <a:pt x="1187" y="166"/>
                </a:cubicBezTo>
                <a:cubicBezTo>
                  <a:pt x="1278" y="189"/>
                  <a:pt x="1361" y="219"/>
                  <a:pt x="1368" y="257"/>
                </a:cubicBezTo>
                <a:cubicBezTo>
                  <a:pt x="1375" y="295"/>
                  <a:pt x="1303" y="344"/>
                  <a:pt x="1232" y="393"/>
                </a:cubicBezTo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971640" y="981000"/>
            <a:ext cx="5244840" cy="1608120"/>
          </a:xfrm>
          <a:custGeom>
            <a:avLst/>
            <a:gdLst/>
            <a:ahLst/>
            <a:rect l="l" t="t" r="r" b="b"/>
            <a:pathLst>
              <a:path w="3304" h="1013">
                <a:moveTo>
                  <a:pt x="2419" y="923"/>
                </a:moveTo>
                <a:cubicBezTo>
                  <a:pt x="2589" y="889"/>
                  <a:pt x="2760" y="855"/>
                  <a:pt x="2828" y="787"/>
                </a:cubicBezTo>
                <a:cubicBezTo>
                  <a:pt x="2896" y="719"/>
                  <a:pt x="3062" y="590"/>
                  <a:pt x="2828" y="514"/>
                </a:cubicBezTo>
                <a:cubicBezTo>
                  <a:pt x="2594" y="438"/>
                  <a:pt x="1845" y="363"/>
                  <a:pt x="1422" y="333"/>
                </a:cubicBezTo>
                <a:cubicBezTo>
                  <a:pt x="999" y="303"/>
                  <a:pt x="522" y="386"/>
                  <a:pt x="288" y="333"/>
                </a:cubicBezTo>
                <a:cubicBezTo>
                  <a:pt x="54" y="280"/>
                  <a:pt x="30" y="30"/>
                  <a:pt x="15" y="15"/>
                </a:cubicBezTo>
                <a:cubicBezTo>
                  <a:pt x="0" y="0"/>
                  <a:pt x="137" y="204"/>
                  <a:pt x="197" y="242"/>
                </a:cubicBezTo>
                <a:cubicBezTo>
                  <a:pt x="257" y="280"/>
                  <a:pt x="340" y="242"/>
                  <a:pt x="378" y="242"/>
                </a:cubicBezTo>
                <a:cubicBezTo>
                  <a:pt x="416" y="242"/>
                  <a:pt x="265" y="249"/>
                  <a:pt x="424" y="242"/>
                </a:cubicBezTo>
                <a:cubicBezTo>
                  <a:pt x="583" y="235"/>
                  <a:pt x="991" y="189"/>
                  <a:pt x="1331" y="197"/>
                </a:cubicBezTo>
                <a:cubicBezTo>
                  <a:pt x="1671" y="205"/>
                  <a:pt x="2155" y="243"/>
                  <a:pt x="2465" y="288"/>
                </a:cubicBezTo>
                <a:cubicBezTo>
                  <a:pt x="2775" y="333"/>
                  <a:pt x="3078" y="394"/>
                  <a:pt x="3191" y="469"/>
                </a:cubicBezTo>
                <a:cubicBezTo>
                  <a:pt x="3304" y="544"/>
                  <a:pt x="3198" y="650"/>
                  <a:pt x="3145" y="741"/>
                </a:cubicBezTo>
                <a:cubicBezTo>
                  <a:pt x="3092" y="832"/>
                  <a:pt x="2982" y="922"/>
                  <a:pt x="2873" y="1013"/>
                </a:cubicBezTo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60360" y="115920"/>
            <a:ext cx="878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aiandra GD"/>
                <a:ea typeface="Times New Roman (Hebrew)"/>
              </a:rPr>
              <a:t>Hwang et al. Int J Impotece Res 18: 400–404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84360" y="2421000"/>
            <a:ext cx="7848360" cy="30801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In hypogonadal patients with ED, androgen supplementation is first-line therapy. If patients are unresponsive to androgen alone or sildenafil alone, combined use may improve erectile function and enhance the therapeutic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of PDE-5 inhibi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475920" y="2635920"/>
            <a:ext cx="8800560" cy="764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aiandra GD"/>
              </a:rPr>
              <a:t>Testosterone sup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45080" y="184464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32000" y="765000"/>
            <a:ext cx="8062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aiandra GD"/>
                <a:ea typeface="Times New Roman (Hebrew)"/>
              </a:rPr>
              <a:t>Rosenthal et al. UROLOGY 67</a:t>
            </a:r>
            <a:r>
              <a:rPr b="1" lang="he-IL" sz="2000" spc="-1" strike="noStrike">
                <a:solidFill>
                  <a:srgbClr val="000000"/>
                </a:solidFill>
                <a:latin typeface="Maiandra GD"/>
                <a:ea typeface="Times New Roman (Hebrew)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Maiandra GD"/>
                <a:ea typeface="Times New Roman (Hebrew)"/>
              </a:rPr>
              <a:t>571–574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187920"/>
            <a:ext cx="9144000" cy="764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aiandra GD"/>
              </a:rPr>
              <a:t>24 hypogonadal men with 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71640" y="1411920"/>
            <a:ext cx="763272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aiandra GD"/>
              </a:rPr>
              <a:t>All failed PDE5-inhibi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924360" y="3789360"/>
            <a:ext cx="4670280" cy="28656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79280" y="3860640"/>
            <a:ext cx="3600720" cy="26535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All the men had normalized serum testosterone after 4 weeks of testosterone mono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00360" y="5734080"/>
            <a:ext cx="1981080" cy="898560"/>
          </a:xfrm>
          <a:custGeom>
            <a:avLst/>
            <a:gdLst/>
            <a:ahLst/>
            <a:rect l="l" t="t" r="r" b="b"/>
            <a:pathLst>
              <a:path w="1248" h="566">
                <a:moveTo>
                  <a:pt x="23" y="61"/>
                </a:moveTo>
                <a:cubicBezTo>
                  <a:pt x="11" y="178"/>
                  <a:pt x="0" y="295"/>
                  <a:pt x="68" y="378"/>
                </a:cubicBezTo>
                <a:cubicBezTo>
                  <a:pt x="136" y="461"/>
                  <a:pt x="295" y="566"/>
                  <a:pt x="431" y="559"/>
                </a:cubicBezTo>
                <a:cubicBezTo>
                  <a:pt x="567" y="552"/>
                  <a:pt x="749" y="424"/>
                  <a:pt x="885" y="333"/>
                </a:cubicBezTo>
                <a:cubicBezTo>
                  <a:pt x="1021" y="242"/>
                  <a:pt x="1248" y="30"/>
                  <a:pt x="1248" y="15"/>
                </a:cubicBezTo>
                <a:cubicBezTo>
                  <a:pt x="1248" y="0"/>
                  <a:pt x="999" y="181"/>
                  <a:pt x="885" y="242"/>
                </a:cubicBezTo>
                <a:cubicBezTo>
                  <a:pt x="771" y="303"/>
                  <a:pt x="658" y="355"/>
                  <a:pt x="567" y="378"/>
                </a:cubicBezTo>
                <a:cubicBezTo>
                  <a:pt x="476" y="401"/>
                  <a:pt x="400" y="401"/>
                  <a:pt x="340" y="378"/>
                </a:cubicBezTo>
                <a:cubicBezTo>
                  <a:pt x="280" y="355"/>
                  <a:pt x="219" y="295"/>
                  <a:pt x="204" y="242"/>
                </a:cubicBezTo>
                <a:cubicBezTo>
                  <a:pt x="189" y="189"/>
                  <a:pt x="219" y="125"/>
                  <a:pt x="250" y="61"/>
                </a:cubicBezTo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475920" y="2635920"/>
            <a:ext cx="8800560" cy="764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aiandra GD"/>
              </a:rPr>
              <a:t>Testosterone sup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116000" y="3859920"/>
            <a:ext cx="7559640" cy="5814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aiandra GD"/>
              </a:rPr>
              <a:t>none of the men regained po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45080" y="184464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43280" y="3284640"/>
            <a:ext cx="0" cy="57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132000" y="765000"/>
            <a:ext cx="8062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aiandra GD"/>
                <a:ea typeface="Times New Roman (Hebrew)"/>
              </a:rPr>
              <a:t>Rosenthal et al. UROLOGY 67</a:t>
            </a:r>
            <a:r>
              <a:rPr b="1" lang="he-IL" sz="2000" spc="-1" strike="noStrike">
                <a:solidFill>
                  <a:srgbClr val="000000"/>
                </a:solidFill>
                <a:latin typeface="Maiandra GD"/>
                <a:ea typeface="Times New Roman (Hebrew)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Maiandra GD"/>
                <a:ea typeface="Times New Roman (Hebrew)"/>
              </a:rPr>
              <a:t>571–574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340000" y="5084280"/>
            <a:ext cx="42717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aiandra GD"/>
              </a:rPr>
              <a:t>PDE5-inhibitors  +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00000" y="5733360"/>
            <a:ext cx="7561440" cy="6426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aiandra GD"/>
              </a:rPr>
              <a:t>Testosterone sup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643280" y="4508640"/>
            <a:ext cx="0" cy="57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187920"/>
            <a:ext cx="9144000" cy="764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aiandra GD"/>
              </a:rPr>
              <a:t>24 hypogonadal men with 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71640" y="1411920"/>
            <a:ext cx="763272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aiandra GD"/>
              </a:rPr>
              <a:t>All failed PDE5-inhibi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aiandra GD"/>
              </a:rPr>
              <a:t>Rosenthal et al. UROLOGY 67</a:t>
            </a:r>
            <a:r>
              <a:rPr b="1" lang="he-IL" sz="3200" spc="-1" strike="noStrike">
                <a:solidFill>
                  <a:srgbClr val="000000"/>
                </a:solidFill>
                <a:latin typeface="Maiandra GD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Maiandra GD"/>
              </a:rPr>
              <a:t>571–574, 2006</a:t>
            </a:r>
            <a:endParaRPr b="1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6697800" cy="38926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6443640" y="1844640"/>
            <a:ext cx="2736720" cy="19227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22/24 (92%) improved potency with combination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56240" y="2647800"/>
            <a:ext cx="1031760" cy="757440"/>
          </a:xfrm>
          <a:custGeom>
            <a:avLst/>
            <a:gdLst/>
            <a:ahLst/>
            <a:rect l="l" t="t" r="r" b="b"/>
            <a:pathLst>
              <a:path w="650" h="477">
                <a:moveTo>
                  <a:pt x="605" y="38"/>
                </a:moveTo>
                <a:cubicBezTo>
                  <a:pt x="521" y="19"/>
                  <a:pt x="438" y="0"/>
                  <a:pt x="378" y="38"/>
                </a:cubicBezTo>
                <a:cubicBezTo>
                  <a:pt x="318" y="76"/>
                  <a:pt x="280" y="205"/>
                  <a:pt x="242" y="265"/>
                </a:cubicBezTo>
                <a:cubicBezTo>
                  <a:pt x="204" y="325"/>
                  <a:pt x="189" y="378"/>
                  <a:pt x="151" y="401"/>
                </a:cubicBezTo>
                <a:cubicBezTo>
                  <a:pt x="113" y="424"/>
                  <a:pt x="0" y="393"/>
                  <a:pt x="15" y="401"/>
                </a:cubicBezTo>
                <a:cubicBezTo>
                  <a:pt x="30" y="409"/>
                  <a:pt x="182" y="477"/>
                  <a:pt x="242" y="447"/>
                </a:cubicBezTo>
                <a:cubicBezTo>
                  <a:pt x="302" y="417"/>
                  <a:pt x="340" y="273"/>
                  <a:pt x="378" y="220"/>
                </a:cubicBezTo>
                <a:cubicBezTo>
                  <a:pt x="416" y="167"/>
                  <a:pt x="424" y="129"/>
                  <a:pt x="469" y="129"/>
                </a:cubicBezTo>
                <a:cubicBezTo>
                  <a:pt x="514" y="129"/>
                  <a:pt x="582" y="174"/>
                  <a:pt x="650" y="220"/>
                </a:cubicBezTo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79280" y="5300640"/>
            <a:ext cx="8856720" cy="17398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aiandra GD"/>
              </a:rPr>
              <a:t>Support use of TRT with sildenafil in hypo-gonadal men in whom sildenafil alone fail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aiandra GD"/>
              </a:rPr>
              <a:t>Rochira et al. J Androl 27:165–175 2006</a:t>
            </a:r>
            <a:endParaRPr b="1" lang="en-US" sz="3600" spc="-1" strike="noStrike">
              <a:solidFill>
                <a:srgbClr val="000000"/>
              </a:solidFill>
              <a:latin typeface="Maiandra GD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rcRect l="11888" t="0" r="0" b="0"/>
          <a:stretch/>
        </p:blipFill>
        <p:spPr>
          <a:xfrm>
            <a:off x="755640" y="1341360"/>
            <a:ext cx="7989840" cy="41911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848880" y="5445000"/>
            <a:ext cx="17978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aiandra GD"/>
              </a:rPr>
              <a:t>No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511320" y="5445000"/>
            <a:ext cx="174888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aiandra GD"/>
              </a:rPr>
              <a:t>Testoster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aiandra GD"/>
              </a:rPr>
              <a:t>+ sildenaf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630680" y="5445000"/>
            <a:ext cx="169848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aiandra GD"/>
              </a:rPr>
              <a:t>testoster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80880" y="5445000"/>
            <a:ext cx="125352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aiandra GD"/>
              </a:rPr>
              <a:t>sildenaf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195640" y="1484280"/>
            <a:ext cx="482436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aiandra GD"/>
              </a:rPr>
              <a:t>Hypogonadal 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7280" y="3114720"/>
            <a:ext cx="30974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aiandra GD"/>
              </a:rPr>
              <a:t>No testoste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59280" y="3141720"/>
            <a:ext cx="30974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aiandra GD"/>
              </a:rPr>
              <a:t>+ testoste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8000" y="-1717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Number of valid erections on NPT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Maiandra GD"/>
              </a:rPr>
              <a:t>Rochira et al. J Androl 27:165–175 2006</a:t>
            </a:r>
            <a:endParaRPr b="1" lang="en-US" sz="2400" spc="-1" strike="noStrike">
              <a:solidFill>
                <a:srgbClr val="000000"/>
              </a:solidFill>
              <a:latin typeface="Maiandra GD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6840720" cy="472284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2700360" y="1989000"/>
            <a:ext cx="2628720" cy="1836720"/>
          </a:xfrm>
          <a:custGeom>
            <a:avLst/>
            <a:gdLst/>
            <a:ahLst/>
            <a:rect l="l" t="t" r="r" b="b"/>
            <a:pathLst>
              <a:path w="1656" h="1157">
                <a:moveTo>
                  <a:pt x="99" y="45"/>
                </a:moveTo>
                <a:cubicBezTo>
                  <a:pt x="49" y="94"/>
                  <a:pt x="0" y="144"/>
                  <a:pt x="53" y="227"/>
                </a:cubicBezTo>
                <a:cubicBezTo>
                  <a:pt x="106" y="310"/>
                  <a:pt x="310" y="469"/>
                  <a:pt x="416" y="544"/>
                </a:cubicBezTo>
                <a:cubicBezTo>
                  <a:pt x="522" y="619"/>
                  <a:pt x="673" y="582"/>
                  <a:pt x="688" y="680"/>
                </a:cubicBezTo>
                <a:cubicBezTo>
                  <a:pt x="703" y="778"/>
                  <a:pt x="492" y="1119"/>
                  <a:pt x="507" y="1134"/>
                </a:cubicBezTo>
                <a:cubicBezTo>
                  <a:pt x="522" y="1149"/>
                  <a:pt x="741" y="877"/>
                  <a:pt x="779" y="771"/>
                </a:cubicBezTo>
                <a:cubicBezTo>
                  <a:pt x="817" y="665"/>
                  <a:pt x="779" y="559"/>
                  <a:pt x="734" y="499"/>
                </a:cubicBezTo>
                <a:cubicBezTo>
                  <a:pt x="689" y="439"/>
                  <a:pt x="583" y="453"/>
                  <a:pt x="507" y="408"/>
                </a:cubicBezTo>
                <a:cubicBezTo>
                  <a:pt x="431" y="363"/>
                  <a:pt x="310" y="272"/>
                  <a:pt x="280" y="227"/>
                </a:cubicBezTo>
                <a:cubicBezTo>
                  <a:pt x="250" y="182"/>
                  <a:pt x="136" y="151"/>
                  <a:pt x="325" y="136"/>
                </a:cubicBezTo>
                <a:cubicBezTo>
                  <a:pt x="514" y="121"/>
                  <a:pt x="1240" y="83"/>
                  <a:pt x="1414" y="136"/>
                </a:cubicBezTo>
                <a:cubicBezTo>
                  <a:pt x="1588" y="189"/>
                  <a:pt x="1429" y="362"/>
                  <a:pt x="1369" y="453"/>
                </a:cubicBezTo>
                <a:cubicBezTo>
                  <a:pt x="1309" y="544"/>
                  <a:pt x="1051" y="567"/>
                  <a:pt x="1051" y="680"/>
                </a:cubicBezTo>
                <a:cubicBezTo>
                  <a:pt x="1051" y="793"/>
                  <a:pt x="1339" y="1111"/>
                  <a:pt x="1369" y="1134"/>
                </a:cubicBezTo>
                <a:cubicBezTo>
                  <a:pt x="1399" y="1157"/>
                  <a:pt x="1256" y="892"/>
                  <a:pt x="1233" y="816"/>
                </a:cubicBezTo>
                <a:cubicBezTo>
                  <a:pt x="1210" y="740"/>
                  <a:pt x="1188" y="733"/>
                  <a:pt x="1233" y="680"/>
                </a:cubicBezTo>
                <a:cubicBezTo>
                  <a:pt x="1278" y="627"/>
                  <a:pt x="1437" y="559"/>
                  <a:pt x="1505" y="499"/>
                </a:cubicBezTo>
                <a:cubicBezTo>
                  <a:pt x="1573" y="439"/>
                  <a:pt x="1626" y="400"/>
                  <a:pt x="1641" y="317"/>
                </a:cubicBezTo>
                <a:cubicBezTo>
                  <a:pt x="1656" y="234"/>
                  <a:pt x="1625" y="117"/>
                  <a:pt x="1595" y="0"/>
                </a:cubicBezTo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732720" y="2852640"/>
            <a:ext cx="2303280" cy="2228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aiandra GD"/>
              </a:rPr>
              <a:t>the effect of combining Sildenafil with testosterone &gt; the sum of each of these two therap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216480" y="2924280"/>
            <a:ext cx="587520" cy="949320"/>
          </a:xfrm>
          <a:custGeom>
            <a:avLst/>
            <a:gdLst/>
            <a:ahLst/>
            <a:rect l="l" t="t" r="r" b="b"/>
            <a:pathLst>
              <a:path w="370" h="598">
                <a:moveTo>
                  <a:pt x="325" y="0"/>
                </a:moveTo>
                <a:cubicBezTo>
                  <a:pt x="287" y="49"/>
                  <a:pt x="249" y="99"/>
                  <a:pt x="234" y="182"/>
                </a:cubicBezTo>
                <a:cubicBezTo>
                  <a:pt x="219" y="265"/>
                  <a:pt x="272" y="431"/>
                  <a:pt x="234" y="499"/>
                </a:cubicBezTo>
                <a:cubicBezTo>
                  <a:pt x="196" y="567"/>
                  <a:pt x="0" y="582"/>
                  <a:pt x="7" y="590"/>
                </a:cubicBezTo>
                <a:cubicBezTo>
                  <a:pt x="14" y="598"/>
                  <a:pt x="234" y="598"/>
                  <a:pt x="279" y="545"/>
                </a:cubicBezTo>
                <a:cubicBezTo>
                  <a:pt x="324" y="492"/>
                  <a:pt x="264" y="341"/>
                  <a:pt x="279" y="273"/>
                </a:cubicBezTo>
                <a:cubicBezTo>
                  <a:pt x="294" y="205"/>
                  <a:pt x="332" y="171"/>
                  <a:pt x="370" y="137"/>
                </a:cubicBezTo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16200000">
            <a:off x="3023280" y="4428360"/>
            <a:ext cx="116064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aiandra GD"/>
              </a:rPr>
              <a:t>Sildena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16200000">
            <a:off x="3957480" y="4461840"/>
            <a:ext cx="1768680" cy="3988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aiandra GD"/>
              </a:rPr>
              <a:t>testosterone</a:t>
            </a:r>
            <a:r>
              <a:rPr b="0" lang="en-US" sz="2000" spc="-1" strike="noStrike">
                <a:solidFill>
                  <a:srgbClr val="ffffff"/>
                </a:solidFill>
                <a:latin typeface="Maiandra G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08000" y="1413000"/>
            <a:ext cx="8496360" cy="1008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aiandra GD"/>
              </a:rPr>
              <a:t>Sildenafil may normalize the sleep-related erections of men with untreated marked hypogonadism  with the same efficacy as testosterone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843280" y="18864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Maiandra GD"/>
              </a:rPr>
              <a:t>conclusions</a:t>
            </a:r>
            <a:endParaRPr b="1" lang="en-US" sz="9600" spc="-1" strike="noStrike">
              <a:solidFill>
                <a:srgbClr val="000000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457200" y="335736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aiandra GD"/>
              </a:rPr>
              <a:t>YES in animals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aiandra GD"/>
              </a:rPr>
              <a:t>MAYBE a less essential role in humans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2843280" y="18864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aiandra GD"/>
              </a:rPr>
              <a:t>Does testosterone have a role in erectile function?</a:t>
            </a:r>
            <a:endParaRPr b="1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79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aiandra GD"/>
              </a:rPr>
              <a:t>Role of testosterone in the physiology of erection</a:t>
            </a:r>
            <a:endParaRPr b="1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2565000"/>
            <a:ext cx="867564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Act as a vasodilator in the penis 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Activation of NO synthase.</a:t>
            </a:r>
            <a:endParaRPr b="0" lang="en-US" sz="2400" spc="-1" strike="noStrike">
              <a:solidFill>
                <a:srgbClr val="000000"/>
              </a:solidFill>
              <a:latin typeface="Maiandra G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Reduction of the alpha-adrenergic vasoconstrictor activity</a:t>
            </a:r>
            <a:endParaRPr b="0" lang="en-US" sz="2400" spc="-1" strike="noStrike">
              <a:solidFill>
                <a:srgbClr val="000000"/>
              </a:solidFill>
              <a:latin typeface="Maiandra G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Contribute to venous occlusion mechanism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Affect erection through central mechanisms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67" name=""/>
          <p:cNvSpPr/>
          <p:nvPr/>
        </p:nvSpPr>
        <p:spPr>
          <a:xfrm>
            <a:off x="2204280" y="1125360"/>
            <a:ext cx="39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aiandra GD"/>
              </a:rPr>
              <a:t>Animal Stu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1989000"/>
            <a:ext cx="792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YES Severe hypogonadism impairs sexual function in YOUNG men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This negative impact can be eliminated by TRT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However, severe hypogonadism is a very rare finding in young men &lt; 50 (0.8% )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2484000" y="620280"/>
            <a:ext cx="65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aiandra GD"/>
              </a:rPr>
              <a:t>Does hypogonadism impairs sexual function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Maiandra GD"/>
              </a:rPr>
              <a:t>If yes, will TRT correct it?</a:t>
            </a:r>
            <a:endParaRPr b="1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It is presently unclear.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Hypogonadism is a potential etiological factor that is often observed in ED patients (15%) 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Though, it may be not the real cause of ED, or at least not its only cause.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In other words ED even the context of hypogonadism is often multifactorial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2484000" y="907560"/>
            <a:ext cx="65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aiandra GD"/>
              </a:rPr>
              <a:t>Does hypogonadism impairs sexual function in older men &gt; 50?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457200" y="3212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Combined therapy with testosterone and PDE5-inhibitors is often required to correct both endocrine and vascular ED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title"/>
          </p:nvPr>
        </p:nvSpPr>
        <p:spPr>
          <a:xfrm>
            <a:off x="2484000" y="907560"/>
            <a:ext cx="65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aiandra GD"/>
              </a:rPr>
              <a:t>What is the implication of of the fact that even the context of hypogonadism ED is often multifactorial?</a:t>
            </a:r>
            <a:endParaRPr b="1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124000" y="1844280"/>
            <a:ext cx="68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aiandra GD"/>
              </a:rPr>
              <a:t>Should testosterone be measured?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Maiandra GD"/>
              </a:rPr>
              <a:t>Should TRT be offered to hypogonadal men?</a:t>
            </a:r>
            <a:endParaRPr b="1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64072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YES it should be measured in all cases of ED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250200" indent="-250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YES TRT should be offered to all hypogonadal men with ED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395280" y="2492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Normalizing testosterone levels is one of the rare opportunities to restore spontaneous erections 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TRT is the only possibility of restoring sexual desire 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TRT also improve other symptoms of LOH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2484000" y="907560"/>
            <a:ext cx="65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aiandra GD"/>
              </a:rPr>
              <a:t>If the association of hypogonadism and ED is questionable why screen and treat hypogonadism?</a:t>
            </a:r>
            <a:endParaRPr b="1" lang="en-US" sz="4400" spc="-1" strike="noStrike">
              <a:solidFill>
                <a:srgbClr val="000000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aiandra GD"/>
              </a:rPr>
              <a:t>The effects of androgen deprivation on penile tissues in experimental models </a:t>
            </a:r>
            <a:endParaRPr b="1" lang="en-US" sz="36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43588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aiandra GD"/>
              </a:rPr>
              <a:t>Smooth muscle cell apoptosis</a:t>
            </a:r>
            <a:endParaRPr b="0" lang="en-US" sz="2400" spc="-1" strike="noStrike">
              <a:solidFill>
                <a:srgbClr val="000000"/>
              </a:solidFill>
              <a:latin typeface="Maiandra GD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aiandra GD"/>
              </a:rPr>
              <a:t>Adipose tissue deposition with fibrosis of corpora</a:t>
            </a:r>
            <a:endParaRPr b="0" lang="en-US" sz="2400" spc="-1" strike="noStrike">
              <a:solidFill>
                <a:srgbClr val="000000"/>
              </a:solidFill>
              <a:latin typeface="Maiandra GD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aiandra GD"/>
              </a:rPr>
              <a:t>Reduction in the expression of NOS</a:t>
            </a:r>
            <a:endParaRPr b="0" lang="en-US" sz="2400" spc="-1" strike="noStrike">
              <a:solidFill>
                <a:srgbClr val="000000"/>
              </a:solidFill>
              <a:latin typeface="Maiandra GD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aiandra GD"/>
              </a:rPr>
              <a:t>Decrease of arterial inflow</a:t>
            </a:r>
            <a:endParaRPr b="0" lang="en-US" sz="2400" spc="-1" strike="noStrike">
              <a:solidFill>
                <a:srgbClr val="000000"/>
              </a:solidFill>
              <a:latin typeface="Maiandra GD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aiandra GD"/>
              </a:rPr>
              <a:t>Increase of venous outflow </a:t>
            </a:r>
            <a:endParaRPr b="0" lang="en-US" sz="2400" spc="-1" strike="noStrike">
              <a:solidFill>
                <a:srgbClr val="000000"/>
              </a:solidFill>
              <a:latin typeface="Maiandra GD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aiandra GD"/>
              </a:rPr>
              <a:t>Enhanced response to mediators of vasoconstriction </a:t>
            </a:r>
            <a:endParaRPr b="0" lang="en-US" sz="2400" spc="-1" strike="noStrike">
              <a:solidFill>
                <a:srgbClr val="000000"/>
              </a:solidFill>
              <a:latin typeface="Maiandra GD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aiandra GD"/>
              </a:rPr>
              <a:t>Decrease of NO-mediated relaxation during sexual stimuli</a:t>
            </a:r>
            <a:endParaRPr b="0" lang="en-US" sz="2400" spc="-1" strike="noStrike">
              <a:solidFill>
                <a:srgbClr val="000000"/>
              </a:solidFill>
              <a:latin typeface="Maiandra GD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aiandra GD"/>
              </a:rPr>
              <a:t>Reduced PDE5 gene and protein expression</a:t>
            </a:r>
            <a:endParaRPr b="0" lang="en-US" sz="24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0" y="1916280"/>
            <a:ext cx="770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79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aiandra GD"/>
              </a:rPr>
              <a:t>Role of testosterone in the physiology of erection</a:t>
            </a:r>
            <a:endParaRPr b="1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2565000"/>
            <a:ext cx="867564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Testosterone effects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aiandra GD"/>
              </a:rPr>
              <a:t>non-penile</a:t>
            </a: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 vasculature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Increase cutaneous “arterialization” in castrated men </a:t>
            </a:r>
            <a:endParaRPr b="0" lang="en-US" sz="2400" spc="-1" strike="noStrike">
              <a:solidFill>
                <a:srgbClr val="000000"/>
              </a:solidFill>
              <a:latin typeface="Maiandra G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Improve intermittent claudication in men with PVD</a:t>
            </a:r>
            <a:endParaRPr b="0" lang="en-US" sz="2400" spc="-1" strike="noStrike">
              <a:solidFill>
                <a:srgbClr val="000000"/>
              </a:solidFill>
              <a:latin typeface="Maiandra G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Used with variable success for treatment of angina</a:t>
            </a:r>
            <a:endParaRPr b="0" lang="en-US" sz="2400" spc="-1" strike="noStrike">
              <a:solidFill>
                <a:srgbClr val="000000"/>
              </a:solidFill>
              <a:latin typeface="Maiandra G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Intracoronary administration induce coronary vasodilation and blood flow</a:t>
            </a:r>
            <a:endParaRPr b="0" lang="en-US" sz="2400" spc="-1" strike="noStrike">
              <a:solidFill>
                <a:srgbClr val="000000"/>
              </a:solidFill>
              <a:latin typeface="Maiandra G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Vasodilation of brachial artery in eugonadal men with coronary artery disease</a:t>
            </a:r>
            <a:endParaRPr b="0" lang="en-US" sz="24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74" name=""/>
          <p:cNvSpPr/>
          <p:nvPr/>
        </p:nvSpPr>
        <p:spPr>
          <a:xfrm>
            <a:off x="2132280" y="1125360"/>
            <a:ext cx="40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aiandra GD"/>
              </a:rPr>
              <a:t>Human Stu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1989000"/>
            <a:ext cx="792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79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aiandra GD"/>
              </a:rPr>
              <a:t>Role of testosterone in the physiology of erection</a:t>
            </a:r>
            <a:endParaRPr b="1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000" y="2391840"/>
            <a:ext cx="867564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Testosterone effects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aiandra GD"/>
              </a:rPr>
              <a:t>penile</a:t>
            </a: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 vasculature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Correlation between serum free testosterone and cavernous vasodilation</a:t>
            </a:r>
            <a:endParaRPr b="0" lang="en-US" sz="2400" spc="-1" strike="noStrike">
              <a:solidFill>
                <a:srgbClr val="000000"/>
              </a:solidFill>
              <a:latin typeface="Maiandra G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Testosterone supplementation for 1 month associated with 27% increase in blood flow in cavernous arteries</a:t>
            </a:r>
            <a:endParaRPr b="0" lang="en-US" sz="2400" spc="-1" strike="noStrike">
              <a:solidFill>
                <a:srgbClr val="000000"/>
              </a:solidFill>
              <a:latin typeface="Maiandra G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Plasma testosterone increased during penile tumescence less in men with ED (15%) compared with subjects without ED (48%) </a:t>
            </a:r>
            <a:endParaRPr b="0" lang="en-US" sz="2400" spc="-1" strike="noStrike">
              <a:solidFill>
                <a:srgbClr val="000000"/>
              </a:solidFill>
              <a:latin typeface="Maiandra G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Activation of paralimbic zones in CNS during sexual arousal correlates with increase in plasma testosterone</a:t>
            </a:r>
            <a:endParaRPr b="0" lang="en-US" sz="3200" spc="-1" strike="noStrike">
              <a:solidFill>
                <a:srgbClr val="000000"/>
              </a:solidFill>
              <a:latin typeface="Maiandra GD"/>
            </a:endParaRPr>
          </a:p>
        </p:txBody>
      </p:sp>
      <p:sp>
        <p:nvSpPr>
          <p:cNvPr id="78" name=""/>
          <p:cNvSpPr/>
          <p:nvPr/>
        </p:nvSpPr>
        <p:spPr>
          <a:xfrm>
            <a:off x="2132280" y="1125360"/>
            <a:ext cx="40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aiandra GD"/>
              </a:rPr>
              <a:t>Human Stu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1989000"/>
            <a:ext cx="792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12:05:11Z</dcterms:created>
  <dc:creator>ilan</dc:creator>
  <dc:description/>
  <dc:language>en-US</dc:language>
  <cp:lastModifiedBy>mC</cp:lastModifiedBy>
  <dcterms:modified xsi:type="dcterms:W3CDTF">2007-05-29T02:13:18Z</dcterms:modified>
  <cp:revision>104</cp:revision>
  <dc:subject/>
  <dc:title>שקופית 1</dc:title>
</cp:coreProperties>
</file>